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4.png" ContentType="image/png"/>
  <Override PartName="/ppt/media/image53.wmf" ContentType="image/x-wmf"/>
  <Override PartName="/ppt/media/image51.jpeg" ContentType="image/jpeg"/>
  <Override PartName="/ppt/media/image19.jpeg" ContentType="image/jpeg"/>
  <Override PartName="/ppt/media/image5.wmf" ContentType="image/x-wmf"/>
  <Override PartName="/ppt/media/image52.jpeg" ContentType="image/jpeg"/>
  <Override PartName="/ppt/media/image33.wmf" ContentType="image/x-wmf"/>
  <Override PartName="/ppt/media/image26.wmf" ContentType="image/x-wmf"/>
  <Override PartName="/ppt/media/image13.jpeg" ContentType="image/jpeg"/>
  <Override PartName="/ppt/media/image3.wmf" ContentType="image/x-wmf"/>
  <Override PartName="/ppt/media/image46.jpeg" ContentType="image/jpeg"/>
  <Override PartName="/ppt/media/image58.png" ContentType="image/png"/>
  <Override PartName="/ppt/media/image34.wmf" ContentType="image/x-wmf"/>
  <Override PartName="/ppt/media/image4.wmf" ContentType="image/x-wmf"/>
  <Override PartName="/ppt/media/image21.png" ContentType="image/png"/>
  <Override PartName="/ppt/media/image1.jpeg" ContentType="image/jpeg"/>
  <Override PartName="/ppt/media/image64.png" ContentType="image/png"/>
  <Override PartName="/ppt/media/image15.jpeg" ContentType="image/jpeg"/>
  <Override PartName="/ppt/media/image29.png" ContentType="image/png"/>
  <Override PartName="/ppt/media/image22.jpeg" ContentType="image/jpeg"/>
  <Override PartName="/ppt/media/image32.wmf" ContentType="image/x-wmf"/>
  <Override PartName="/ppt/media/image28.png" ContentType="image/png"/>
  <Override PartName="/ppt/media/image16.png" ContentType="image/png"/>
  <Override PartName="/ppt/media/image49.jpeg" ContentType="image/jpeg"/>
  <Override PartName="/ppt/media/image10.wmf" ContentType="image/x-wmf"/>
  <Override PartName="/ppt/media/image62.png" ContentType="image/png"/>
  <Override PartName="/ppt/media/image61.png" ContentType="image/png"/>
  <Override PartName="/ppt/media/image59.wmf" ContentType="image/x-wmf"/>
  <Override PartName="/ppt/media/image6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6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7.wmf" ContentType="image/x-wmf"/>
  <Override PartName="/ppt/media/image11.jpeg" ContentType="image/jpeg"/>
  <Override PartName="/ppt/media/image27.png" ContentType="image/png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60.wmf" ContentType="image/x-wmf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12.wmf" ContentType="image/x-wmf"/>
  <Override PartName="/ppt/media/image35.wmf" ContentType="image/x-wmf"/>
  <Override PartName="/ppt/media/image48.jpeg" ContentType="image/jpeg"/>
  <Override PartName="/ppt/media/image5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347-5B5E-4A82-8C51-3E227623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that increasing/decreasing patterns are often called growth patterns or arithmetic and geometric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that patterns increase/decrease with constant or variabl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nking visual and number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ematics is the science of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tterns permeate the curriculum and are found in the strands Number, Shape and Space, and Statistics and Prob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ll the story of the students who generalized a pattern to find the ‘names’ of any given whole-number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eaning of the equal sign, explored in the primary Patterns and Relations strand, and searching for missing addends form a part of the foundation for formal algebra in later years.  The properties of the operations explored in elementary school form the basis of the rules for manipulating algebraic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12 and 17 means the child wrote: 8 + 4 = 12 + 5 =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e the Graffiti Activity in the facilitator notes.  Tell participants they may keep the chart for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ndergarten students create very concrete patterns with manipulatives, sounds and actions. Explain orientation – perhaps keys that are placed alternately teeth up and down.  Kindergarten students also identify patterns in nursery rhymes and simple so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emphasis on non-numerical patterns continues into Grade 1 but diagrams are added to describe and create patterns. Events, such as birthdays, seasons and days of the week, are also introduced in Grad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erical patterns with numbers to 100 are introduced in Grade 2.  Colour, size, shape and orientation are now simply termed as attributes in the achievement indicators for the teacher.  Double-attribute problems push students’ thinking as they explore non-numerical patterns. In Grade 3, students extend their understanding of both non-numerical and numerical patterns that are expressed as concrete, pictorial or symboli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ndergarten students create very concrete patterns with manipulatives, sounds and actions. Explain orientation – perhaps keys that are placed alternately teeth up and down.  Kindergarten students also identify patterns in nursery rhymes and simple so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emphasis on non-numerical patterns continues into Grade 1 but diagrams are added to describe and create patterns. Events, such as birthdays, seasons and days of the week, are also introduced in Grad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erical patterns with numbers to 100 are introduced in Grade 2.  Colour, size, shape and orientation are now simply termed as attributes in the achievement indicators for the teacher.  Double-attribute problems push students’ thinking as they explore non-numerical patterns. In Grade 3, students extend their understanding of both non-numerical and numerical patterns that are expressed as concrete, pictorial or symboli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974-93D8-40D2-8C98-1CD4B9F9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1EA-1DB9-4CA3-828B-7D37934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019-7D96-4A2B-A0CC-F692D7C9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D8C-DA65-435F-916E-20D14012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34E-BFCD-4F74-8F74-B077C97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CF2-B2BC-4C98-9586-FA6F80C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757-8549-4B0B-8F66-DE388551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BEA-731E-42D6-B187-BBD5B35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04E-9172-435C-B225-9709CB78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3F9-0DDA-498A-BA78-2526431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CBD-35FA-49D9-901D-11F2AD0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E5B-D894-40A6-BE95-A130067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ED31-3BC3-4060-A12A-E4BA1AB2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v.ab.ca/home/index.cf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5.wmf"/><Relationship Id="rId9" Type="http://schemas.openxmlformats.org/officeDocument/2006/relationships/hyperlink" Target="http://standards.nctm.org/document/eexamples/chap4/4.1/index.htm" TargetMode="External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105264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66cc"/>
                </a:solidFill>
                <a:latin typeface="Times New Roman"/>
              </a:rPr>
              <a:t>Patterns and </a:t>
            </a:r>
            <a:br>
              <a:rPr sz="6000"/>
            </a:br>
            <a:r>
              <a:rPr b="0" lang="en-CA" sz="6000" spc="-1" strike="noStrike">
                <a:solidFill>
                  <a:srgbClr val="0066cc"/>
                </a:solidFill>
                <a:latin typeface="Times New Roman"/>
              </a:rPr>
              <a:t>Pre-Alge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934920" cy="84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76360" y="6381720"/>
            <a:ext cx="59752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6237360"/>
            <a:ext cx="575964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33360"/>
            <a:ext cx="0" cy="187164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8360" y="333000"/>
            <a:ext cx="0" cy="4103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76280"/>
            <a:ext cx="8281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3240" y="46530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Arial"/>
              </a:rPr>
              <a:t>Kindergarten</a:t>
            </a:r>
            <a:r>
              <a:rPr b="0" lang="en-CA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CA" sz="2400" spc="-1" strike="noStrike">
                <a:solidFill>
                  <a:srgbClr val="000066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24000" y="3860640"/>
            <a:ext cx="2374560" cy="505080"/>
            <a:chOff x="2124000" y="3860640"/>
            <a:chExt cx="2374560" cy="505080"/>
          </a:xfrm>
        </p:grpSpPr>
        <p:sp>
          <p:nvSpPr>
            <p:cNvPr id="57" name=""/>
            <p:cNvSpPr/>
            <p:nvPr/>
          </p:nvSpPr>
          <p:spPr>
            <a:xfrm>
              <a:off x="212400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6440" y="3860640"/>
              <a:ext cx="508680" cy="505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7440" y="3860640"/>
              <a:ext cx="50868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988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45080" y="3860640"/>
            <a:ext cx="2374560" cy="505080"/>
            <a:chOff x="4645080" y="3860640"/>
            <a:chExt cx="2374560" cy="505080"/>
          </a:xfrm>
        </p:grpSpPr>
        <p:sp>
          <p:nvSpPr>
            <p:cNvPr id="62" name=""/>
            <p:cNvSpPr/>
            <p:nvPr/>
          </p:nvSpPr>
          <p:spPr>
            <a:xfrm>
              <a:off x="464508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67520" y="3860640"/>
              <a:ext cx="508680" cy="505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88520" y="3860640"/>
              <a:ext cx="50868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096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674200" y="6308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overnment of Alberta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5734080"/>
            <a:ext cx="12970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9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9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30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ame pattern can be expressed in different w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18324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n-numerical patterns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ranslate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etter cod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ABB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then extended to make predictions and solve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9080" y="3429000"/>
            <a:ext cx="9507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3429000"/>
            <a:ext cx="792000" cy="9144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7920" y="3429000"/>
            <a:ext cx="792000" cy="9144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3429000"/>
            <a:ext cx="95112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71640" y="3284640"/>
            <a:ext cx="700200" cy="1047240"/>
            <a:chOff x="2771640" y="3284640"/>
            <a:chExt cx="700200" cy="1047240"/>
          </a:xfrm>
        </p:grpSpPr>
        <p:grpSp>
          <p:nvGrpSpPr>
            <p:cNvPr id="311" name=""/>
            <p:cNvGrpSpPr/>
            <p:nvPr/>
          </p:nvGrpSpPr>
          <p:grpSpPr>
            <a:xfrm>
              <a:off x="3234240" y="3309120"/>
              <a:ext cx="190440" cy="408960"/>
              <a:chOff x="3234240" y="3309120"/>
              <a:chExt cx="190440" cy="40896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3234240" y="351360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3329640" y="33091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59480" y="3312360"/>
              <a:ext cx="190440" cy="408960"/>
              <a:chOff x="2859480" y="3312360"/>
              <a:chExt cx="190440" cy="40896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2859480" y="351684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859480" y="33123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90016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140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771640" y="3420720"/>
              <a:ext cx="700200" cy="911160"/>
              <a:chOff x="2771640" y="3420720"/>
              <a:chExt cx="700200" cy="911160"/>
            </a:xfrm>
          </p:grpSpPr>
          <p:sp>
            <p:nvSpPr>
              <p:cNvPr id="320" name=""/>
              <p:cNvSpPr/>
              <p:nvPr/>
            </p:nvSpPr>
            <p:spPr>
              <a:xfrm>
                <a:off x="2995560" y="3420720"/>
                <a:ext cx="285840" cy="20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2933640" y="3686760"/>
                <a:ext cx="409320" cy="285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89980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8600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7164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8140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5724360" y="3284640"/>
            <a:ext cx="700200" cy="1047240"/>
            <a:chOff x="5724360" y="3284640"/>
            <a:chExt cx="700200" cy="1047240"/>
          </a:xfrm>
        </p:grpSpPr>
        <p:grpSp>
          <p:nvGrpSpPr>
            <p:cNvPr id="327" name=""/>
            <p:cNvGrpSpPr/>
            <p:nvPr/>
          </p:nvGrpSpPr>
          <p:grpSpPr>
            <a:xfrm>
              <a:off x="6186960" y="3309120"/>
              <a:ext cx="190440" cy="408960"/>
              <a:chOff x="6186960" y="3309120"/>
              <a:chExt cx="190440" cy="40896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6186960" y="351360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6282360" y="33091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812200" y="3312360"/>
              <a:ext cx="190440" cy="408960"/>
              <a:chOff x="5812200" y="3312360"/>
              <a:chExt cx="190440" cy="40896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5812200" y="351684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812200" y="33123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85288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3412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724360" y="3420720"/>
              <a:ext cx="700200" cy="911160"/>
              <a:chOff x="5724360" y="3420720"/>
              <a:chExt cx="700200" cy="911160"/>
            </a:xfrm>
          </p:grpSpPr>
          <p:sp>
            <p:nvSpPr>
              <p:cNvPr id="336" name=""/>
              <p:cNvSpPr/>
              <p:nvPr/>
            </p:nvSpPr>
            <p:spPr>
              <a:xfrm>
                <a:off x="5948280" y="3420720"/>
                <a:ext cx="285840" cy="20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5400000">
                <a:off x="5886360" y="3686760"/>
                <a:ext cx="409320" cy="285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85252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3872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2436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3412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852360" y="3514680"/>
            <a:ext cx="590760" cy="831960"/>
            <a:chOff x="3852360" y="3514680"/>
            <a:chExt cx="590760" cy="831960"/>
          </a:xfrm>
        </p:grpSpPr>
        <p:grpSp>
          <p:nvGrpSpPr>
            <p:cNvPr id="343" name=""/>
            <p:cNvGrpSpPr/>
            <p:nvPr/>
          </p:nvGrpSpPr>
          <p:grpSpPr>
            <a:xfrm>
              <a:off x="4176360" y="4049280"/>
              <a:ext cx="266760" cy="297360"/>
              <a:chOff x="4176360" y="4049280"/>
              <a:chExt cx="266760" cy="29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4308840" y="422136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76360" y="4049280"/>
                <a:ext cx="13248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52320" y="4278600"/>
                <a:ext cx="1908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852360" y="4037040"/>
              <a:ext cx="266760" cy="297360"/>
              <a:chOff x="3852360" y="4037040"/>
              <a:chExt cx="266760" cy="297360"/>
            </a:xfrm>
          </p:grpSpPr>
          <p:sp>
            <p:nvSpPr>
              <p:cNvPr id="348" name=""/>
              <p:cNvSpPr/>
              <p:nvPr/>
            </p:nvSpPr>
            <p:spPr>
              <a:xfrm>
                <a:off x="3986640" y="420912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986640" y="4037040"/>
                <a:ext cx="13248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3852360" y="4266360"/>
                <a:ext cx="1908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985560" y="3514680"/>
              <a:ext cx="286560" cy="20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3924360" y="3780000"/>
              <a:ext cx="4089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170600" y="3787560"/>
              <a:ext cx="163440" cy="433440"/>
              <a:chOff x="4170600" y="3787560"/>
              <a:chExt cx="163440" cy="433440"/>
            </a:xfrm>
          </p:grpSpPr>
          <p:sp>
            <p:nvSpPr>
              <p:cNvPr id="354" name=""/>
              <p:cNvSpPr/>
              <p:nvPr/>
            </p:nvSpPr>
            <p:spPr>
              <a:xfrm>
                <a:off x="4238640" y="3787560"/>
                <a:ext cx="9540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238280" y="3992040"/>
                <a:ext cx="9540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70600" y="4152960"/>
                <a:ext cx="954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24720" y="3781440"/>
              <a:ext cx="162720" cy="433440"/>
              <a:chOff x="3924720" y="3781440"/>
              <a:chExt cx="162720" cy="43344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3924720" y="378144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24720" y="39859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992400" y="4146840"/>
                <a:ext cx="950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802040" y="3514680"/>
            <a:ext cx="588600" cy="831960"/>
            <a:chOff x="4802040" y="3514680"/>
            <a:chExt cx="588600" cy="831960"/>
          </a:xfrm>
        </p:grpSpPr>
        <p:grpSp>
          <p:nvGrpSpPr>
            <p:cNvPr id="362" name=""/>
            <p:cNvGrpSpPr/>
            <p:nvPr/>
          </p:nvGrpSpPr>
          <p:grpSpPr>
            <a:xfrm>
              <a:off x="5124960" y="4049280"/>
              <a:ext cx="265680" cy="297360"/>
              <a:chOff x="5124960" y="4049280"/>
              <a:chExt cx="265680" cy="297360"/>
            </a:xfrm>
          </p:grpSpPr>
          <p:sp>
            <p:nvSpPr>
              <p:cNvPr id="363" name=""/>
              <p:cNvSpPr/>
              <p:nvPr/>
            </p:nvSpPr>
            <p:spPr>
              <a:xfrm>
                <a:off x="5257080" y="422136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24960" y="4049280"/>
                <a:ext cx="13212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00560" y="4278600"/>
                <a:ext cx="19008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802040" y="4037040"/>
              <a:ext cx="265680" cy="297360"/>
              <a:chOff x="4802040" y="4037040"/>
              <a:chExt cx="265680" cy="297360"/>
            </a:xfrm>
          </p:grpSpPr>
          <p:sp>
            <p:nvSpPr>
              <p:cNvPr id="367" name=""/>
              <p:cNvSpPr/>
              <p:nvPr/>
            </p:nvSpPr>
            <p:spPr>
              <a:xfrm>
                <a:off x="4935600" y="420912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4935600" y="4037040"/>
                <a:ext cx="13212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802040" y="4266360"/>
                <a:ext cx="19008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934520" y="3514680"/>
              <a:ext cx="285480" cy="20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4872240" y="3780360"/>
              <a:ext cx="40896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119200" y="3787560"/>
              <a:ext cx="162720" cy="433440"/>
              <a:chOff x="5119200" y="3787560"/>
              <a:chExt cx="162720" cy="433440"/>
            </a:xfrm>
          </p:grpSpPr>
          <p:sp>
            <p:nvSpPr>
              <p:cNvPr id="373" name=""/>
              <p:cNvSpPr/>
              <p:nvPr/>
            </p:nvSpPr>
            <p:spPr>
              <a:xfrm>
                <a:off x="5186880" y="37875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186880" y="399204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9200" y="4152960"/>
                <a:ext cx="954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873680" y="3781440"/>
              <a:ext cx="162000" cy="433440"/>
              <a:chOff x="4873680" y="3781440"/>
              <a:chExt cx="162000" cy="43344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873680" y="3781440"/>
                <a:ext cx="9468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4040" y="3985920"/>
                <a:ext cx="9468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940640" y="4146840"/>
                <a:ext cx="950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2629080" y="4365720"/>
            <a:ext cx="4031640" cy="1009800"/>
            <a:chOff x="2629080" y="4365720"/>
            <a:chExt cx="4031640" cy="1009800"/>
          </a:xfrm>
        </p:grpSpPr>
        <p:sp>
          <p:nvSpPr>
            <p:cNvPr id="381" name=""/>
            <p:cNvSpPr/>
            <p:nvPr/>
          </p:nvSpPr>
          <p:spPr>
            <a:xfrm>
              <a:off x="2629080" y="436572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2720" y="43657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6720" y="436716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1640" y="43657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771640" y="3357720"/>
          <a:ext cx="6447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357720"/>
                    <a:ext cx="644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644400" cy="1008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644760" cy="100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6444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844720" y="3500280"/>
            <a:ext cx="503280" cy="792360"/>
            <a:chOff x="2844720" y="3500280"/>
            <a:chExt cx="503280" cy="792360"/>
          </a:xfrm>
        </p:grpSpPr>
        <p:sp>
          <p:nvSpPr>
            <p:cNvPr id="392" name=""/>
            <p:cNvSpPr/>
            <p:nvPr/>
          </p:nvSpPr>
          <p:spPr>
            <a:xfrm>
              <a:off x="284472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800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44720" y="3500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140360" y="350028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350028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69080" y="3500280"/>
            <a:ext cx="503280" cy="792360"/>
            <a:chOff x="5869080" y="3500280"/>
            <a:chExt cx="503280" cy="792360"/>
          </a:xfrm>
        </p:grpSpPr>
        <p:sp>
          <p:nvSpPr>
            <p:cNvPr id="398" name=""/>
            <p:cNvSpPr/>
            <p:nvPr/>
          </p:nvSpPr>
          <p:spPr>
            <a:xfrm>
              <a:off x="586908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7236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69080" y="3500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40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40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41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ame pattern can be expressed in different w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329080" cy="1419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979640" y="1557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Transl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4076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x and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4797360"/>
            <a:ext cx="6624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reate a 2- to 4-element core, using your choice of materials; e.g., colour, orientation,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xtend your pattern 2 more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nd someone else in the room with the same pattern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56536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bot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BB patte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42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42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42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116000" y="177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s can 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made up of 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t of eleme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e uni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i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tera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692360" y="2781360"/>
            <a:ext cx="1368360" cy="360360"/>
            <a:chOff x="1692360" y="2781360"/>
            <a:chExt cx="1368360" cy="360360"/>
          </a:xfrm>
        </p:grpSpPr>
        <p:sp>
          <p:nvSpPr>
            <p:cNvPr id="432" name=""/>
            <p:cNvSpPr/>
            <p:nvPr/>
          </p:nvSpPr>
          <p:spPr>
            <a:xfrm>
              <a:off x="169236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9564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0036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03640" y="2781360"/>
            <a:ext cx="1368360" cy="360360"/>
            <a:chOff x="3203640" y="2781360"/>
            <a:chExt cx="1368360" cy="360360"/>
          </a:xfrm>
        </p:grpSpPr>
        <p:sp>
          <p:nvSpPr>
            <p:cNvPr id="436" name=""/>
            <p:cNvSpPr/>
            <p:nvPr/>
          </p:nvSpPr>
          <p:spPr>
            <a:xfrm>
              <a:off x="320364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92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716360" y="2781360"/>
            <a:ext cx="1368360" cy="360360"/>
            <a:chOff x="4716360" y="2781360"/>
            <a:chExt cx="1368360" cy="360360"/>
          </a:xfrm>
        </p:grpSpPr>
        <p:sp>
          <p:nvSpPr>
            <p:cNvPr id="440" name=""/>
            <p:cNvSpPr/>
            <p:nvPr/>
          </p:nvSpPr>
          <p:spPr>
            <a:xfrm>
              <a:off x="471636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1964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436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227640" y="2781360"/>
            <a:ext cx="1368360" cy="360360"/>
            <a:chOff x="6227640" y="2781360"/>
            <a:chExt cx="1368360" cy="360360"/>
          </a:xfrm>
        </p:grpSpPr>
        <p:sp>
          <p:nvSpPr>
            <p:cNvPr id="444" name=""/>
            <p:cNvSpPr/>
            <p:nvPr/>
          </p:nvSpPr>
          <p:spPr>
            <a:xfrm>
              <a:off x="622764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3092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564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03240" y="3602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s can 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creas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created by orderly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476360" y="4322880"/>
            <a:ext cx="3663720" cy="381960"/>
            <a:chOff x="1476360" y="4322880"/>
            <a:chExt cx="3663720" cy="381960"/>
          </a:xfrm>
        </p:grpSpPr>
        <p:sp>
          <p:nvSpPr>
            <p:cNvPr id="449" name=""/>
            <p:cNvSpPr/>
            <p:nvPr/>
          </p:nvSpPr>
          <p:spPr>
            <a:xfrm>
              <a:off x="4079160" y="4491720"/>
              <a:ext cx="204840" cy="21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70800" y="4322880"/>
              <a:ext cx="204840" cy="21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476360" y="4322880"/>
              <a:ext cx="3663720" cy="381960"/>
              <a:chOff x="1476360" y="4322880"/>
              <a:chExt cx="3663720" cy="381960"/>
            </a:xfrm>
          </p:grpSpPr>
          <p:sp>
            <p:nvSpPr>
              <p:cNvPr id="452" name=""/>
              <p:cNvSpPr/>
              <p:nvPr/>
            </p:nvSpPr>
            <p:spPr>
              <a:xfrm>
                <a:off x="14763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930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216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387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558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847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133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3004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471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658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829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115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286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746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032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199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24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0812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994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1852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352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2688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1835280" y="479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                 7              5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6020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2                    16              8            4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626920" y="5229360"/>
            <a:ext cx="5181480" cy="804600"/>
            <a:chOff x="2626920" y="5229360"/>
            <a:chExt cx="5181480" cy="804600"/>
          </a:xfrm>
        </p:grpSpPr>
        <p:grpSp>
          <p:nvGrpSpPr>
            <p:cNvPr id="477" name=""/>
            <p:cNvGrpSpPr/>
            <p:nvPr/>
          </p:nvGrpSpPr>
          <p:grpSpPr>
            <a:xfrm>
              <a:off x="7399440" y="5832720"/>
              <a:ext cx="408960" cy="201240"/>
              <a:chOff x="7399440" y="5832720"/>
              <a:chExt cx="408960" cy="2012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7603920" y="5832720"/>
                <a:ext cx="204480" cy="201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399440" y="583272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717600" y="5631480"/>
              <a:ext cx="408960" cy="402120"/>
              <a:chOff x="6717600" y="5631480"/>
              <a:chExt cx="408960" cy="402120"/>
            </a:xfrm>
          </p:grpSpPr>
          <p:sp>
            <p:nvSpPr>
              <p:cNvPr id="481" name=""/>
              <p:cNvSpPr/>
              <p:nvPr/>
            </p:nvSpPr>
            <p:spPr>
              <a:xfrm flipH="1">
                <a:off x="6922080" y="5832720"/>
                <a:ext cx="204480" cy="20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71760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92208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71760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627520" y="5631480"/>
              <a:ext cx="817560" cy="402120"/>
              <a:chOff x="5627520" y="5631480"/>
              <a:chExt cx="817560" cy="40212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62406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036120" y="583272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8316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627160" y="583272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62406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6036120" y="563148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8316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627160" y="563148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536720" y="5229360"/>
              <a:ext cx="817560" cy="804240"/>
              <a:chOff x="4536720" y="5229360"/>
              <a:chExt cx="817560" cy="80424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51498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4945320" y="583272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7408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536360" y="583272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1498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945320" y="563148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7408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4536360" y="563148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14980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4945320" y="543060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74084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4536360" y="543060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14980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4945320" y="522936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474084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536360" y="522936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626920" y="5229360"/>
              <a:ext cx="1636200" cy="804240"/>
              <a:chOff x="2626920" y="5229360"/>
              <a:chExt cx="1636200" cy="80424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405864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385416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364968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52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05864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85416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364968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34452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05864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85416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364968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44520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405864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85416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64968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44520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24072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0362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83140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62692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24072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362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83140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62692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24072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03624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83140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62692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24072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03624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83140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62692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54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54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55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have a core uni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2050920" y="1700280"/>
            <a:ext cx="59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95640" y="530064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Stamp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0200" y="2924280"/>
            <a:ext cx="691380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95520" y="4349880"/>
            <a:ext cx="716040" cy="231120"/>
            <a:chOff x="3395520" y="4349880"/>
            <a:chExt cx="716040" cy="231120"/>
          </a:xfrm>
        </p:grpSpPr>
        <p:sp>
          <p:nvSpPr>
            <p:cNvPr id="560" name=""/>
            <p:cNvSpPr/>
            <p:nvPr/>
          </p:nvSpPr>
          <p:spPr>
            <a:xfrm>
              <a:off x="3395520" y="434988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82960" y="435276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43200" y="4352760"/>
              <a:ext cx="228600" cy="22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419280" y="3390840"/>
            <a:ext cx="686160" cy="685440"/>
            <a:chOff x="3419280" y="3390840"/>
            <a:chExt cx="686160" cy="685440"/>
          </a:xfrm>
        </p:grpSpPr>
        <p:sp>
          <p:nvSpPr>
            <p:cNvPr id="564" name=""/>
            <p:cNvSpPr/>
            <p:nvPr/>
          </p:nvSpPr>
          <p:spPr>
            <a:xfrm>
              <a:off x="3648240" y="3390840"/>
              <a:ext cx="228600" cy="571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419280" y="3390840"/>
              <a:ext cx="686160" cy="685440"/>
              <a:chOff x="3419280" y="3390840"/>
              <a:chExt cx="686160" cy="685440"/>
            </a:xfrm>
          </p:grpSpPr>
          <p:sp>
            <p:nvSpPr>
              <p:cNvPr id="566" name=""/>
              <p:cNvSpPr/>
              <p:nvPr/>
            </p:nvSpPr>
            <p:spPr>
              <a:xfrm>
                <a:off x="3419640" y="3390840"/>
                <a:ext cx="228600" cy="5713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 rot="16200000">
                <a:off x="3419280" y="3847320"/>
                <a:ext cx="228600" cy="228600"/>
              </a:xfrm>
              <a:prstGeom prst="flowChartOnlineStorag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6200000">
                <a:off x="3647880" y="3847320"/>
                <a:ext cx="228600" cy="228600"/>
              </a:xfrm>
              <a:prstGeom prst="flowChartOnlineStorag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76840" y="3390840"/>
                <a:ext cx="228600" cy="5713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 rot="16200000">
                <a:off x="3876480" y="3847320"/>
                <a:ext cx="228600" cy="228600"/>
              </a:xfrm>
              <a:prstGeom prst="flowChartOnlineStorag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4143240" y="4351320"/>
            <a:ext cx="716040" cy="231840"/>
            <a:chOff x="4143240" y="4351320"/>
            <a:chExt cx="716040" cy="231840"/>
          </a:xfrm>
        </p:grpSpPr>
        <p:sp>
          <p:nvSpPr>
            <p:cNvPr id="572" name=""/>
            <p:cNvSpPr/>
            <p:nvPr/>
          </p:nvSpPr>
          <p:spPr>
            <a:xfrm>
              <a:off x="414324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3068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9092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63960" y="4349880"/>
            <a:ext cx="716040" cy="231120"/>
            <a:chOff x="4863960" y="4349880"/>
            <a:chExt cx="716040" cy="231120"/>
          </a:xfrm>
        </p:grpSpPr>
        <p:sp>
          <p:nvSpPr>
            <p:cNvPr id="576" name=""/>
            <p:cNvSpPr/>
            <p:nvPr/>
          </p:nvSpPr>
          <p:spPr>
            <a:xfrm>
              <a:off x="4863960" y="434988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51400" y="435276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1640" y="4352760"/>
              <a:ext cx="228600" cy="22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84680" y="4351320"/>
            <a:ext cx="716040" cy="231840"/>
            <a:chOff x="5584680" y="4351320"/>
            <a:chExt cx="716040" cy="231840"/>
          </a:xfrm>
        </p:grpSpPr>
        <p:sp>
          <p:nvSpPr>
            <p:cNvPr id="580" name=""/>
            <p:cNvSpPr/>
            <p:nvPr/>
          </p:nvSpPr>
          <p:spPr>
            <a:xfrm>
              <a:off x="558468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212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3236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409920" y="4351320"/>
            <a:ext cx="716040" cy="231840"/>
            <a:chOff x="3409920" y="4351320"/>
            <a:chExt cx="716040" cy="231840"/>
          </a:xfrm>
        </p:grpSpPr>
        <p:sp>
          <p:nvSpPr>
            <p:cNvPr id="584" name=""/>
            <p:cNvSpPr/>
            <p:nvPr/>
          </p:nvSpPr>
          <p:spPr>
            <a:xfrm>
              <a:off x="340992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9736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5760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3399 L 1.66667E-006 0.06057 E">
                                      <p:cBhvr>
                                        <p:cTn id="205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6058 L 0.00191 -0.02335 E">
                                      <p:cBhvr>
                                        <p:cTn id="212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4.62428E-006 L -0.07587 -4.62428E-006 E">
                                      <p:cBhvr>
                                        <p:cTn id="215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59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59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are not always lin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1773360"/>
            <a:ext cx="59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03640" y="5229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ows and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00000" y="5157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yclic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622440" cy="6858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571680" cy="7459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2843280" y="3502080"/>
            <a:ext cx="984240" cy="5144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 rot="20051400">
            <a:off x="1860480" y="2952360"/>
            <a:ext cx="479520" cy="333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 rot="3334200">
            <a:off x="2925360" y="3030480"/>
            <a:ext cx="552600" cy="2890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 rot="8752800">
            <a:off x="3059280" y="4224240"/>
            <a:ext cx="480960" cy="331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2244600" y="4408560"/>
            <a:ext cx="822600" cy="533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"/>
          <a:stretch/>
        </p:blipFill>
        <p:spPr>
          <a:xfrm rot="14762400">
            <a:off x="1727640" y="4189680"/>
            <a:ext cx="554040" cy="289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3708360" y="5922000"/>
            <a:ext cx="501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tandards.nctm.org/document/eexamples/chap4/4.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5148360" y="2492280"/>
            <a:ext cx="1657080" cy="16048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6227640" y="3645000"/>
            <a:ext cx="1598760" cy="1585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1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1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2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1979640" y="1628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6836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72280" cy="2313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are not always lin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9640" y="5950080"/>
            <a:ext cx="612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istening Kit Level 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p. 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), by D. Gag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2001, Red Deer, AB: Themes &amp; Variations. Copyright 2001 by the author. Adap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33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34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38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0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773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42920" y="5157720"/>
            <a:ext cx="7488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dict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king the link between repeating and increas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769920" y="3065400"/>
            <a:ext cx="2001960" cy="1116000"/>
            <a:chOff x="3769920" y="3065400"/>
            <a:chExt cx="2001960" cy="1116000"/>
          </a:xfrm>
        </p:grpSpPr>
        <p:grpSp>
          <p:nvGrpSpPr>
            <p:cNvPr id="644" name=""/>
            <p:cNvGrpSpPr/>
            <p:nvPr/>
          </p:nvGrpSpPr>
          <p:grpSpPr>
            <a:xfrm>
              <a:off x="3770280" y="3065400"/>
              <a:ext cx="2001600" cy="428760"/>
              <a:chOff x="3770280" y="3065400"/>
              <a:chExt cx="2001600" cy="428760"/>
            </a:xfrm>
          </p:grpSpPr>
          <p:sp>
            <p:nvSpPr>
              <p:cNvPr id="645" name=""/>
              <p:cNvSpPr/>
              <p:nvPr/>
            </p:nvSpPr>
            <p:spPr>
              <a:xfrm>
                <a:off x="3992400" y="3065400"/>
                <a:ext cx="444600" cy="428760"/>
              </a:xfrm>
              <a:prstGeom prst="hexagon">
                <a:avLst>
                  <a:gd name="adj" fmla="val 2592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70280" y="3279600"/>
                <a:ext cx="222120" cy="21456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17640" y="3065400"/>
                <a:ext cx="444600" cy="428760"/>
              </a:xfrm>
              <a:prstGeom prst="hexagon">
                <a:avLst>
                  <a:gd name="adj" fmla="val 2592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93560" y="3279600"/>
                <a:ext cx="444600" cy="214560"/>
              </a:xfrm>
              <a:custGeom>
                <a:avLst/>
                <a:gdLst>
                  <a:gd name="textAreaLeft" fmla="*/ 97560 w 444600"/>
                  <a:gd name="textAreaRight" fmla="*/ 347040 w 444600"/>
                  <a:gd name="textAreaTop" fmla="*/ 47160 h 214560"/>
                  <a:gd name="textAreaBottom" fmla="*/ 16740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38520" y="3279600"/>
                <a:ext cx="333360" cy="214560"/>
              </a:xfrm>
              <a:prstGeom prst="parallelogram">
                <a:avLst>
                  <a:gd name="adj" fmla="val 50351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769920" y="3619440"/>
              <a:ext cx="1916280" cy="561960"/>
              <a:chOff x="3769920" y="3619440"/>
              <a:chExt cx="1916280" cy="561960"/>
            </a:xfrm>
          </p:grpSpPr>
          <p:sp>
            <p:nvSpPr>
              <p:cNvPr id="651" name=""/>
              <p:cNvSpPr/>
              <p:nvPr/>
            </p:nvSpPr>
            <p:spPr>
              <a:xfrm>
                <a:off x="4646520" y="3760920"/>
                <a:ext cx="37476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5400000">
                <a:off x="4657320" y="2732040"/>
                <a:ext cx="141480" cy="191628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6280"/>
                  <a:gd name="textAreaBottom" fmla="*/ 1906920 h 19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5772240" y="3062160"/>
            <a:ext cx="2003400" cy="1119240"/>
            <a:chOff x="5772240" y="3062160"/>
            <a:chExt cx="2003400" cy="1119240"/>
          </a:xfrm>
        </p:grpSpPr>
        <p:grpSp>
          <p:nvGrpSpPr>
            <p:cNvPr id="654" name=""/>
            <p:cNvGrpSpPr/>
            <p:nvPr/>
          </p:nvGrpSpPr>
          <p:grpSpPr>
            <a:xfrm>
              <a:off x="5772240" y="3062160"/>
              <a:ext cx="2003400" cy="428760"/>
              <a:chOff x="5772240" y="3062160"/>
              <a:chExt cx="2003400" cy="428760"/>
            </a:xfrm>
          </p:grpSpPr>
          <p:sp>
            <p:nvSpPr>
              <p:cNvPr id="655" name=""/>
              <p:cNvSpPr/>
              <p:nvPr/>
            </p:nvSpPr>
            <p:spPr>
              <a:xfrm>
                <a:off x="5994720" y="3062160"/>
                <a:ext cx="444960" cy="428760"/>
              </a:xfrm>
              <a:prstGeom prst="hexagon">
                <a:avLst>
                  <a:gd name="adj" fmla="val 25945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72240" y="3276360"/>
                <a:ext cx="222480" cy="21456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20320" y="3062160"/>
                <a:ext cx="444960" cy="428760"/>
              </a:xfrm>
              <a:prstGeom prst="hexagon">
                <a:avLst>
                  <a:gd name="adj" fmla="val 25945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96600" y="3276360"/>
                <a:ext cx="444960" cy="214560"/>
              </a:xfrm>
              <a:custGeom>
                <a:avLst/>
                <a:gdLst>
                  <a:gd name="textAreaLeft" fmla="*/ 97920 w 444960"/>
                  <a:gd name="textAreaRight" fmla="*/ 347040 w 444960"/>
                  <a:gd name="textAreaTop" fmla="*/ 47160 h 214560"/>
                  <a:gd name="textAreaBottom" fmla="*/ 16740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1920" y="3276360"/>
                <a:ext cx="333720" cy="214560"/>
              </a:xfrm>
              <a:prstGeom prst="parallelogram">
                <a:avLst>
                  <a:gd name="adj" fmla="val 50405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72240" y="3619440"/>
              <a:ext cx="1915920" cy="561960"/>
              <a:chOff x="5772240" y="3619440"/>
              <a:chExt cx="1915920" cy="561960"/>
            </a:xfrm>
          </p:grpSpPr>
          <p:sp>
            <p:nvSpPr>
              <p:cNvPr id="661" name=""/>
              <p:cNvSpPr/>
              <p:nvPr/>
            </p:nvSpPr>
            <p:spPr>
              <a:xfrm>
                <a:off x="6648480" y="3760920"/>
                <a:ext cx="376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400000">
                <a:off x="6659280" y="2732040"/>
                <a:ext cx="141480" cy="191592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5920"/>
                  <a:gd name="textAreaBottom" fmla="*/ 1906560 h 191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1763280" y="3057480"/>
            <a:ext cx="2007000" cy="1123920"/>
            <a:chOff x="1763280" y="3057480"/>
            <a:chExt cx="2007000" cy="1123920"/>
          </a:xfrm>
        </p:grpSpPr>
        <p:grpSp>
          <p:nvGrpSpPr>
            <p:cNvPr id="664" name=""/>
            <p:cNvGrpSpPr/>
            <p:nvPr/>
          </p:nvGrpSpPr>
          <p:grpSpPr>
            <a:xfrm>
              <a:off x="1766880" y="3057480"/>
              <a:ext cx="2003400" cy="426960"/>
              <a:chOff x="1766880" y="3057480"/>
              <a:chExt cx="2003400" cy="426960"/>
            </a:xfrm>
          </p:grpSpPr>
          <p:sp>
            <p:nvSpPr>
              <p:cNvPr id="665" name=""/>
              <p:cNvSpPr/>
              <p:nvPr/>
            </p:nvSpPr>
            <p:spPr>
              <a:xfrm>
                <a:off x="1989360" y="3057480"/>
                <a:ext cx="444960" cy="426960"/>
              </a:xfrm>
              <a:prstGeom prst="hexagon">
                <a:avLst>
                  <a:gd name="adj" fmla="val 2605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66880" y="3270960"/>
                <a:ext cx="222480" cy="2134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14960" y="3057480"/>
                <a:ext cx="444960" cy="426960"/>
              </a:xfrm>
              <a:prstGeom prst="hexagon">
                <a:avLst>
                  <a:gd name="adj" fmla="val 2605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991240" y="3270960"/>
                <a:ext cx="444960" cy="213480"/>
              </a:xfrm>
              <a:custGeom>
                <a:avLst/>
                <a:gdLst>
                  <a:gd name="textAreaLeft" fmla="*/ 97920 w 444960"/>
                  <a:gd name="textAreaRight" fmla="*/ 347040 w 444960"/>
                  <a:gd name="textAreaTop" fmla="*/ 46800 h 213480"/>
                  <a:gd name="textAreaBottom" fmla="*/ 166680 h 21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6560" y="3270960"/>
                <a:ext cx="333720" cy="213480"/>
              </a:xfrm>
              <a:prstGeom prst="parallelogram">
                <a:avLst>
                  <a:gd name="adj" fmla="val 5066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763280" y="3619440"/>
              <a:ext cx="1916280" cy="561960"/>
              <a:chOff x="1763280" y="3619440"/>
              <a:chExt cx="1916280" cy="561960"/>
            </a:xfrm>
          </p:grpSpPr>
          <p:sp>
            <p:nvSpPr>
              <p:cNvPr id="671" name=""/>
              <p:cNvSpPr/>
              <p:nvPr/>
            </p:nvSpPr>
            <p:spPr>
              <a:xfrm>
                <a:off x="2517840" y="3760920"/>
                <a:ext cx="376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400000">
                <a:off x="2650680" y="2732040"/>
                <a:ext cx="141480" cy="191628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6280"/>
                  <a:gd name="textAreaBottom" fmla="*/ 1906920 h 19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2517840" y="2637000"/>
            <a:ext cx="4646520" cy="420480"/>
            <a:chOff x="2517840" y="2637000"/>
            <a:chExt cx="4646520" cy="420480"/>
          </a:xfrm>
        </p:grpSpPr>
        <p:sp>
          <p:nvSpPr>
            <p:cNvPr id="674" name=""/>
            <p:cNvSpPr/>
            <p:nvPr/>
          </p:nvSpPr>
          <p:spPr>
            <a:xfrm>
              <a:off x="2517840" y="2637000"/>
              <a:ext cx="509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21240" y="2637000"/>
              <a:ext cx="6271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23200" y="2637000"/>
              <a:ext cx="641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987640" y="42926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) What would the 20th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) What would the 30th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) What would the 32nd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8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8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8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0" name=""/>
          <p:cNvSpPr/>
          <p:nvPr/>
        </p:nvSpPr>
        <p:spPr>
          <a:xfrm>
            <a:off x="3492360" y="16286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17840" y="2637000"/>
            <a:ext cx="509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66880" y="3057480"/>
            <a:ext cx="2003400" cy="426960"/>
            <a:chOff x="1766880" y="3057480"/>
            <a:chExt cx="2003400" cy="426960"/>
          </a:xfrm>
        </p:grpSpPr>
        <p:sp>
          <p:nvSpPr>
            <p:cNvPr id="693" name=""/>
            <p:cNvSpPr/>
            <p:nvPr/>
          </p:nvSpPr>
          <p:spPr>
            <a:xfrm>
              <a:off x="19893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6880" y="3270960"/>
              <a:ext cx="222480" cy="213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149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1240" y="3270960"/>
              <a:ext cx="444960" cy="21348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6800 h 213480"/>
                <a:gd name="textAreaBottom" fmla="*/ 166680 h 21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36560" y="3270960"/>
              <a:ext cx="333720" cy="213480"/>
            </a:xfrm>
            <a:prstGeom prst="parallelogram">
              <a:avLst>
                <a:gd name="adj" fmla="val 5066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770280" y="3065400"/>
            <a:ext cx="2001600" cy="428760"/>
            <a:chOff x="3770280" y="3065400"/>
            <a:chExt cx="2001600" cy="428760"/>
          </a:xfrm>
        </p:grpSpPr>
        <p:sp>
          <p:nvSpPr>
            <p:cNvPr id="699" name=""/>
            <p:cNvSpPr/>
            <p:nvPr/>
          </p:nvSpPr>
          <p:spPr>
            <a:xfrm>
              <a:off x="399240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70280" y="3279600"/>
              <a:ext cx="22212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1764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3560" y="3279600"/>
              <a:ext cx="444600" cy="214560"/>
            </a:xfrm>
            <a:custGeom>
              <a:avLst/>
              <a:gdLst>
                <a:gd name="textAreaLeft" fmla="*/ 97560 w 444600"/>
                <a:gd name="textAreaRight" fmla="*/ 347040 w 44460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38520" y="3279600"/>
              <a:ext cx="333360" cy="214560"/>
            </a:xfrm>
            <a:prstGeom prst="parallelogram">
              <a:avLst>
                <a:gd name="adj" fmla="val 5035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772240" y="3062160"/>
            <a:ext cx="2003400" cy="428760"/>
            <a:chOff x="5772240" y="3062160"/>
            <a:chExt cx="2003400" cy="428760"/>
          </a:xfrm>
        </p:grpSpPr>
        <p:sp>
          <p:nvSpPr>
            <p:cNvPr id="705" name=""/>
            <p:cNvSpPr/>
            <p:nvPr/>
          </p:nvSpPr>
          <p:spPr>
            <a:xfrm>
              <a:off x="59947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72240" y="3276360"/>
              <a:ext cx="22248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203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6600" y="3276360"/>
              <a:ext cx="444960" cy="21456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41920" y="3276360"/>
              <a:ext cx="333720" cy="214560"/>
            </a:xfrm>
            <a:prstGeom prst="parallelogram">
              <a:avLst>
                <a:gd name="adj" fmla="val 5040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69920" y="3619440"/>
            <a:ext cx="1916280" cy="561960"/>
            <a:chOff x="3769920" y="3619440"/>
            <a:chExt cx="1916280" cy="561960"/>
          </a:xfrm>
        </p:grpSpPr>
        <p:sp>
          <p:nvSpPr>
            <p:cNvPr id="711" name=""/>
            <p:cNvSpPr/>
            <p:nvPr/>
          </p:nvSpPr>
          <p:spPr>
            <a:xfrm>
              <a:off x="4646520" y="3760920"/>
              <a:ext cx="374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5400000">
              <a:off x="465732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72240" y="3619440"/>
            <a:ext cx="1915920" cy="561960"/>
            <a:chOff x="5772240" y="3619440"/>
            <a:chExt cx="1915920" cy="561960"/>
          </a:xfrm>
        </p:grpSpPr>
        <p:sp>
          <p:nvSpPr>
            <p:cNvPr id="714" name=""/>
            <p:cNvSpPr/>
            <p:nvPr/>
          </p:nvSpPr>
          <p:spPr>
            <a:xfrm>
              <a:off x="664848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5400000">
              <a:off x="6659280" y="2732040"/>
              <a:ext cx="141480" cy="191592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5920"/>
                <a:gd name="textAreaBottom" fmla="*/ 1906560 h 19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1763280" y="3619440"/>
            <a:ext cx="1916280" cy="561960"/>
            <a:chOff x="1763280" y="3619440"/>
            <a:chExt cx="1916280" cy="561960"/>
          </a:xfrm>
        </p:grpSpPr>
        <p:sp>
          <p:nvSpPr>
            <p:cNvPr id="717" name=""/>
            <p:cNvSpPr/>
            <p:nvPr/>
          </p:nvSpPr>
          <p:spPr>
            <a:xfrm>
              <a:off x="251784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400000">
              <a:off x="265068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4521240" y="2637000"/>
            <a:ext cx="627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23200" y="2637000"/>
            <a:ext cx="641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547280" y="4292640"/>
            <a:ext cx="6279120" cy="596520"/>
            <a:chOff x="1547280" y="4292640"/>
            <a:chExt cx="6279120" cy="596520"/>
          </a:xfrm>
        </p:grpSpPr>
        <p:grpSp>
          <p:nvGrpSpPr>
            <p:cNvPr id="722" name=""/>
            <p:cNvGrpSpPr/>
            <p:nvPr/>
          </p:nvGrpSpPr>
          <p:grpSpPr>
            <a:xfrm>
              <a:off x="1547280" y="4292640"/>
              <a:ext cx="6017400" cy="596520"/>
              <a:chOff x="1547280" y="4292640"/>
              <a:chExt cx="6017400" cy="596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434640" y="4529880"/>
                <a:ext cx="1130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  31  3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02680" y="45460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02400" y="45298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60720" y="45298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400" y="4521240"/>
                <a:ext cx="39240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780080" y="453780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1547280" y="4292640"/>
                <a:ext cx="5494320" cy="228600"/>
                <a:chOff x="1547280" y="4292640"/>
                <a:chExt cx="5494320" cy="228600"/>
              </a:xfrm>
            </p:grpSpPr>
            <p:sp>
              <p:nvSpPr>
                <p:cNvPr id="730" name=""/>
                <p:cNvSpPr/>
                <p:nvPr/>
              </p:nvSpPr>
              <p:spPr>
                <a:xfrm rot="5400000">
                  <a:off x="185688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5400000">
                  <a:off x="270468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5400000">
                  <a:off x="355284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5400000">
                  <a:off x="440064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5400000">
                  <a:off x="524880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5400000">
                  <a:off x="609696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5400000">
                  <a:off x="6717960" y="4381920"/>
                  <a:ext cx="50040" cy="215280"/>
                </a:xfrm>
                <a:custGeom>
                  <a:avLst/>
                  <a:gdLst>
                    <a:gd name="textAreaLeft" fmla="*/ 14760 w 50040"/>
                    <a:gd name="textAreaRight" fmla="*/ 50400 w 50040"/>
                    <a:gd name="textAreaTop" fmla="*/ 53640 h 215280"/>
                    <a:gd name="textAreaBottom" fmla="*/ 161640 h 21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5400000">
                  <a:off x="6908760" y="4385880"/>
                  <a:ext cx="50040" cy="215280"/>
                </a:xfrm>
                <a:custGeom>
                  <a:avLst/>
                  <a:gdLst>
                    <a:gd name="textAreaLeft" fmla="*/ 14760 w 50040"/>
                    <a:gd name="textAreaRight" fmla="*/ 50400 w 50040"/>
                    <a:gd name="textAreaTop" fmla="*/ 53640 h 215280"/>
                    <a:gd name="textAreaBottom" fmla="*/ 161640 h 21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8" name=""/>
            <p:cNvSpPr/>
            <p:nvPr/>
          </p:nvSpPr>
          <p:spPr>
            <a:xfrm>
              <a:off x="1547640" y="4521240"/>
              <a:ext cx="627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836720" y="4919760"/>
            <a:ext cx="6480360" cy="596160"/>
            <a:chOff x="1836720" y="4919760"/>
            <a:chExt cx="6480360" cy="596160"/>
          </a:xfrm>
        </p:grpSpPr>
        <p:grpSp>
          <p:nvGrpSpPr>
            <p:cNvPr id="740" name=""/>
            <p:cNvGrpSpPr/>
            <p:nvPr/>
          </p:nvGrpSpPr>
          <p:grpSpPr>
            <a:xfrm>
              <a:off x="1836720" y="5140080"/>
              <a:ext cx="5554800" cy="375840"/>
              <a:chOff x="1836720" y="5140080"/>
              <a:chExt cx="5554800" cy="375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836720" y="5140080"/>
                <a:ext cx="481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10200" y="5172840"/>
                <a:ext cx="481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68880" y="51728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49520" y="51566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498480" y="51566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68320" y="514800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6920" y="516456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68480" y="4919760"/>
              <a:ext cx="6348600" cy="228600"/>
              <a:chOff x="1968480" y="4919760"/>
              <a:chExt cx="6348600" cy="228600"/>
            </a:xfrm>
          </p:grpSpPr>
          <p:sp>
            <p:nvSpPr>
              <p:cNvPr id="749" name=""/>
              <p:cNvSpPr/>
              <p:nvPr/>
            </p:nvSpPr>
            <p:spPr>
              <a:xfrm>
                <a:off x="1968840" y="5148360"/>
                <a:ext cx="63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228276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5400000">
                <a:off x="313992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5400000">
                <a:off x="3997080" y="4605840"/>
                <a:ext cx="228600" cy="85644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6440"/>
                  <a:gd name="textAreaBottom" fmla="*/ 642600 h 85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485424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5400000">
                <a:off x="571176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400000">
                <a:off x="656928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1547280" y="5560920"/>
            <a:ext cx="6464520" cy="604800"/>
            <a:chOff x="1547280" y="5560920"/>
            <a:chExt cx="6464520" cy="604800"/>
          </a:xfrm>
        </p:grpSpPr>
        <p:sp>
          <p:nvSpPr>
            <p:cNvPr id="757" name=""/>
            <p:cNvSpPr/>
            <p:nvPr/>
          </p:nvSpPr>
          <p:spPr>
            <a:xfrm>
              <a:off x="1547640" y="5789520"/>
              <a:ext cx="63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2207160" y="5789520"/>
              <a:ext cx="5804640" cy="376200"/>
              <a:chOff x="2207160" y="5789520"/>
              <a:chExt cx="5804640" cy="376200"/>
            </a:xfrm>
          </p:grpSpPr>
          <p:sp>
            <p:nvSpPr>
              <p:cNvPr id="759" name=""/>
              <p:cNvSpPr/>
              <p:nvPr/>
            </p:nvSpPr>
            <p:spPr>
              <a:xfrm>
                <a:off x="6476400" y="5822640"/>
                <a:ext cx="1535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33  34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37240" y="58140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22200" y="57978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73320" y="57978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07160" y="578952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07440" y="580608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 rot="5400000">
              <a:off x="1860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2715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3570840" y="5247720"/>
              <a:ext cx="228600" cy="85464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480 h 854640"/>
                <a:gd name="textAreaBottom" fmla="*/ 641160 h 85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4425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528084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613620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000">
              <a:off x="699624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984000" y="5739480"/>
              <a:ext cx="564480" cy="50400"/>
              <a:chOff x="6984000" y="5739480"/>
              <a:chExt cx="564480" cy="50400"/>
            </a:xfrm>
          </p:grpSpPr>
          <p:sp>
            <p:nvSpPr>
              <p:cNvPr id="773" name=""/>
              <p:cNvSpPr/>
              <p:nvPr/>
            </p:nvSpPr>
            <p:spPr>
              <a:xfrm rot="5400000">
                <a:off x="7241040" y="5670360"/>
                <a:ext cx="50040" cy="18864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8640"/>
                  <a:gd name="textAreaBottom" fmla="*/ 141480 h 18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5400000">
                <a:off x="7428960" y="5670360"/>
                <a:ext cx="50040" cy="18900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9000"/>
                  <a:gd name="textAreaBottom" fmla="*/ 141840 h 18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7053120" y="5670360"/>
                <a:ext cx="50040" cy="18828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8280"/>
                  <a:gd name="textAreaBottom" fmla="*/ 141480 h 18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"/>
          <p:cNvSpPr/>
          <p:nvPr/>
        </p:nvSpPr>
        <p:spPr>
          <a:xfrm>
            <a:off x="1042920" y="19162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would the 32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7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7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7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"/>
          <p:cNvSpPr txBox="1"/>
          <p:nvPr/>
        </p:nvSpPr>
        <p:spPr>
          <a:xfrm>
            <a:off x="1763640" y="765000"/>
            <a:ext cx="619308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9" name=""/>
          <p:cNvSpPr/>
          <p:nvPr/>
        </p:nvSpPr>
        <p:spPr>
          <a:xfrm>
            <a:off x="3419640" y="1700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7840" y="2637000"/>
            <a:ext cx="509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66880" y="3057480"/>
            <a:ext cx="2003400" cy="426960"/>
            <a:chOff x="1766880" y="3057480"/>
            <a:chExt cx="2003400" cy="426960"/>
          </a:xfrm>
        </p:grpSpPr>
        <p:sp>
          <p:nvSpPr>
            <p:cNvPr id="792" name=""/>
            <p:cNvSpPr/>
            <p:nvPr/>
          </p:nvSpPr>
          <p:spPr>
            <a:xfrm>
              <a:off x="19893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66880" y="3270960"/>
              <a:ext cx="222480" cy="213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149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91240" y="3270960"/>
              <a:ext cx="444960" cy="21348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6800 h 213480"/>
                <a:gd name="textAreaBottom" fmla="*/ 166680 h 21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6560" y="3270960"/>
              <a:ext cx="333720" cy="213480"/>
            </a:xfrm>
            <a:prstGeom prst="parallelogram">
              <a:avLst>
                <a:gd name="adj" fmla="val 5066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770280" y="3065400"/>
            <a:ext cx="2001600" cy="428760"/>
            <a:chOff x="3770280" y="3065400"/>
            <a:chExt cx="2001600" cy="428760"/>
          </a:xfrm>
        </p:grpSpPr>
        <p:sp>
          <p:nvSpPr>
            <p:cNvPr id="798" name=""/>
            <p:cNvSpPr/>
            <p:nvPr/>
          </p:nvSpPr>
          <p:spPr>
            <a:xfrm>
              <a:off x="399240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70280" y="3279600"/>
              <a:ext cx="22212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1764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3560" y="3279600"/>
              <a:ext cx="444600" cy="214560"/>
            </a:xfrm>
            <a:custGeom>
              <a:avLst/>
              <a:gdLst>
                <a:gd name="textAreaLeft" fmla="*/ 97560 w 444600"/>
                <a:gd name="textAreaRight" fmla="*/ 347040 w 44460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38520" y="3279600"/>
              <a:ext cx="333360" cy="214560"/>
            </a:xfrm>
            <a:prstGeom prst="parallelogram">
              <a:avLst>
                <a:gd name="adj" fmla="val 5035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772240" y="3062160"/>
            <a:ext cx="2003400" cy="428760"/>
            <a:chOff x="5772240" y="3062160"/>
            <a:chExt cx="2003400" cy="428760"/>
          </a:xfrm>
        </p:grpSpPr>
        <p:sp>
          <p:nvSpPr>
            <p:cNvPr id="804" name=""/>
            <p:cNvSpPr/>
            <p:nvPr/>
          </p:nvSpPr>
          <p:spPr>
            <a:xfrm>
              <a:off x="59947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72240" y="3276360"/>
              <a:ext cx="22248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203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96600" y="3276360"/>
              <a:ext cx="444960" cy="21456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1920" y="3276360"/>
              <a:ext cx="333720" cy="214560"/>
            </a:xfrm>
            <a:prstGeom prst="parallelogram">
              <a:avLst>
                <a:gd name="adj" fmla="val 5040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769920" y="3619440"/>
            <a:ext cx="1916280" cy="561960"/>
            <a:chOff x="3769920" y="3619440"/>
            <a:chExt cx="1916280" cy="561960"/>
          </a:xfrm>
        </p:grpSpPr>
        <p:sp>
          <p:nvSpPr>
            <p:cNvPr id="810" name=""/>
            <p:cNvSpPr/>
            <p:nvPr/>
          </p:nvSpPr>
          <p:spPr>
            <a:xfrm>
              <a:off x="4646520" y="3760920"/>
              <a:ext cx="374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5400000">
              <a:off x="465732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772240" y="3619440"/>
            <a:ext cx="1915920" cy="561960"/>
            <a:chOff x="5772240" y="3619440"/>
            <a:chExt cx="1915920" cy="561960"/>
          </a:xfrm>
        </p:grpSpPr>
        <p:sp>
          <p:nvSpPr>
            <p:cNvPr id="813" name=""/>
            <p:cNvSpPr/>
            <p:nvPr/>
          </p:nvSpPr>
          <p:spPr>
            <a:xfrm>
              <a:off x="664848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5400000">
              <a:off x="6659280" y="2732040"/>
              <a:ext cx="141480" cy="191592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5920"/>
                <a:gd name="textAreaBottom" fmla="*/ 1906560 h 19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763280" y="3619440"/>
            <a:ext cx="1916280" cy="561960"/>
            <a:chOff x="1763280" y="3619440"/>
            <a:chExt cx="1916280" cy="561960"/>
          </a:xfrm>
        </p:grpSpPr>
        <p:sp>
          <p:nvSpPr>
            <p:cNvPr id="816" name=""/>
            <p:cNvSpPr/>
            <p:nvPr/>
          </p:nvSpPr>
          <p:spPr>
            <a:xfrm>
              <a:off x="251784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5400000">
              <a:off x="265068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521240" y="2637000"/>
            <a:ext cx="627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23200" y="2637000"/>
            <a:ext cx="641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76360" y="5051520"/>
            <a:ext cx="64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) Create a pattern in which the 20th shape is a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) Create a pattern in which the 12th shape is a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) Create a pattern in which the 6th and 9th shapes are both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8120" y="5396040"/>
            <a:ext cx="166680" cy="137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24520" y="5037120"/>
            <a:ext cx="335160" cy="276120"/>
          </a:xfrm>
          <a:prstGeom prst="hexagon">
            <a:avLst>
              <a:gd name="adj" fmla="val 30346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48440" y="5654520"/>
            <a:ext cx="331920" cy="136800"/>
          </a:xfrm>
          <a:custGeom>
            <a:avLst/>
            <a:gdLst>
              <a:gd name="textAreaLeft" fmla="*/ 72720 w 331920"/>
              <a:gd name="textAreaRight" fmla="*/ 259200 w 331920"/>
              <a:gd name="textAreaTop" fmla="*/ 29880 h 136800"/>
              <a:gd name="textAreaBottom" fmla="*/ 106920 h 1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63528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82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83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83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"/>
          <p:cNvSpPr txBox="1"/>
          <p:nvPr/>
        </p:nvSpPr>
        <p:spPr>
          <a:xfrm>
            <a:off x="1547640" y="692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7" name=""/>
          <p:cNvSpPr/>
          <p:nvPr/>
        </p:nvSpPr>
        <p:spPr>
          <a:xfrm>
            <a:off x="1116000" y="170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8000" y="578952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tters That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01880" y="3097080"/>
            <a:ext cx="379440" cy="28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778200" y="2565360"/>
            <a:ext cx="250920" cy="1355760"/>
            <a:chOff x="3778200" y="2565360"/>
            <a:chExt cx="250920" cy="1355760"/>
          </a:xfrm>
        </p:grpSpPr>
        <p:sp>
          <p:nvSpPr>
            <p:cNvPr id="841" name=""/>
            <p:cNvSpPr/>
            <p:nvPr/>
          </p:nvSpPr>
          <p:spPr>
            <a:xfrm>
              <a:off x="3787560" y="2565360"/>
              <a:ext cx="2415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78200" y="338112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062240" y="3097080"/>
            <a:ext cx="379440" cy="28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137120" y="2565360"/>
            <a:ext cx="250560" cy="1355760"/>
            <a:chOff x="4137120" y="2565360"/>
            <a:chExt cx="250560" cy="1355760"/>
          </a:xfrm>
        </p:grpSpPr>
        <p:sp>
          <p:nvSpPr>
            <p:cNvPr id="845" name=""/>
            <p:cNvSpPr/>
            <p:nvPr/>
          </p:nvSpPr>
          <p:spPr>
            <a:xfrm>
              <a:off x="4146480" y="2565360"/>
              <a:ext cx="24120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37120" y="3381120"/>
              <a:ext cx="2394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186520" y="2557440"/>
            <a:ext cx="379080" cy="1355760"/>
            <a:chOff x="5186520" y="2557440"/>
            <a:chExt cx="379080" cy="1355760"/>
          </a:xfrm>
        </p:grpSpPr>
        <p:sp>
          <p:nvSpPr>
            <p:cNvPr id="848" name=""/>
            <p:cNvSpPr/>
            <p:nvPr/>
          </p:nvSpPr>
          <p:spPr>
            <a:xfrm>
              <a:off x="5186520" y="3097440"/>
              <a:ext cx="37908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56000" y="2557440"/>
              <a:ext cx="24084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56000" y="3373560"/>
              <a:ext cx="24084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433760" y="2557440"/>
            <a:ext cx="379440" cy="1355760"/>
            <a:chOff x="4433760" y="2557440"/>
            <a:chExt cx="379440" cy="1355760"/>
          </a:xfrm>
        </p:grpSpPr>
        <p:sp>
          <p:nvSpPr>
            <p:cNvPr id="852" name=""/>
            <p:cNvSpPr/>
            <p:nvPr/>
          </p:nvSpPr>
          <p:spPr>
            <a:xfrm>
              <a:off x="4433760" y="3097440"/>
              <a:ext cx="37944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03600" y="255744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93880" y="3373560"/>
              <a:ext cx="2415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815000" y="2557440"/>
            <a:ext cx="379440" cy="1355760"/>
            <a:chOff x="4815000" y="2557440"/>
            <a:chExt cx="379440" cy="1355760"/>
          </a:xfrm>
        </p:grpSpPr>
        <p:sp>
          <p:nvSpPr>
            <p:cNvPr id="856" name=""/>
            <p:cNvSpPr/>
            <p:nvPr/>
          </p:nvSpPr>
          <p:spPr>
            <a:xfrm>
              <a:off x="4815000" y="3097440"/>
              <a:ext cx="37944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84840" y="255744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96000" y="3373560"/>
              <a:ext cx="2397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24000" y="4221000"/>
            <a:ext cx="4753080" cy="1386720"/>
            <a:chOff x="2124000" y="4221000"/>
            <a:chExt cx="4753080" cy="1386720"/>
          </a:xfrm>
        </p:grpSpPr>
        <p:sp>
          <p:nvSpPr>
            <p:cNvPr id="860" name=""/>
            <p:cNvSpPr/>
            <p:nvPr/>
          </p:nvSpPr>
          <p:spPr>
            <a:xfrm>
              <a:off x="2124000" y="530064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rame 1     Frame 2          Frame 3                  Fram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411280" y="4221000"/>
              <a:ext cx="4393800" cy="858960"/>
              <a:chOff x="2411280" y="4221000"/>
              <a:chExt cx="4393800" cy="85896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2411280" y="4225680"/>
                <a:ext cx="316800" cy="854280"/>
                <a:chOff x="2411280" y="4225680"/>
                <a:chExt cx="316800" cy="85428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24112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46996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46132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100680" y="4225680"/>
                <a:ext cx="633960" cy="854280"/>
                <a:chOff x="3100680" y="4225680"/>
                <a:chExt cx="633960" cy="85428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100680" y="456552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41784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15756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47652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14928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48480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4105800" y="4225680"/>
                <a:ext cx="945720" cy="854280"/>
                <a:chOff x="4105800" y="4225680"/>
                <a:chExt cx="945720" cy="85428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10580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424400" y="456552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7347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79340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79340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16448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48308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15584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49136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5532120" y="4221000"/>
                <a:ext cx="1272960" cy="858960"/>
                <a:chOff x="5532120" y="4221000"/>
                <a:chExt cx="1272960" cy="85896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5321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8507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1696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4882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21144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21144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8216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90112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7388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90940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54696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54696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77840" y="188640"/>
            <a:ext cx="8497800" cy="4103640"/>
            <a:chOff x="177840" y="188640"/>
            <a:chExt cx="8497800" cy="4103640"/>
          </a:xfrm>
        </p:grpSpPr>
        <p:sp>
          <p:nvSpPr>
            <p:cNvPr id="69" name=""/>
            <p:cNvSpPr/>
            <p:nvPr/>
          </p:nvSpPr>
          <p:spPr>
            <a:xfrm>
              <a:off x="538200" y="189000"/>
              <a:ext cx="0" cy="187164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95280" y="188640"/>
              <a:ext cx="0" cy="4103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840" y="331920"/>
              <a:ext cx="8497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6920" y="954000"/>
            <a:ext cx="76327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y Teach Patterns and Pre-Algeb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imple Patterns Are Every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Different Types of Patter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umerical/Non-numer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Same Pattern Can Be Expressed in Different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Different Types of Patter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peating and Increasing/De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attern Rules Generalize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quations Express Relationships Between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 and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26920" y="6093000"/>
            <a:ext cx="7418160" cy="288720"/>
            <a:chOff x="826920" y="6093000"/>
            <a:chExt cx="7418160" cy="288720"/>
          </a:xfrm>
        </p:grpSpPr>
        <p:grpSp>
          <p:nvGrpSpPr>
            <p:cNvPr id="74" name=""/>
            <p:cNvGrpSpPr/>
            <p:nvPr/>
          </p:nvGrpSpPr>
          <p:grpSpPr>
            <a:xfrm>
              <a:off x="5311440" y="6093000"/>
              <a:ext cx="2933640" cy="288720"/>
              <a:chOff x="5311440" y="6093000"/>
              <a:chExt cx="2933640" cy="2887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311440" y="6093000"/>
                <a:ext cx="1423080" cy="288720"/>
                <a:chOff x="5311440" y="6093000"/>
                <a:chExt cx="1423080" cy="2887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31144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68440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05664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4296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822000" y="6093000"/>
                <a:ext cx="1423080" cy="288720"/>
                <a:chOff x="6822000" y="6093000"/>
                <a:chExt cx="1423080" cy="288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8220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9496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720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94016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"/>
            <p:cNvGrpSpPr/>
            <p:nvPr/>
          </p:nvGrpSpPr>
          <p:grpSpPr>
            <a:xfrm>
              <a:off x="2314440" y="6093000"/>
              <a:ext cx="2933640" cy="288720"/>
              <a:chOff x="2314440" y="6093000"/>
              <a:chExt cx="2933640" cy="28872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314440" y="6093000"/>
                <a:ext cx="1423080" cy="288720"/>
                <a:chOff x="2314440" y="6093000"/>
                <a:chExt cx="1423080" cy="288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31444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8740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05964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326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825000" y="6093000"/>
                <a:ext cx="1423080" cy="288720"/>
                <a:chOff x="3825000" y="6093000"/>
                <a:chExt cx="1423080" cy="288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8250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796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020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4316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826920" y="6093000"/>
              <a:ext cx="1422000" cy="288720"/>
              <a:chOff x="826920" y="6093000"/>
              <a:chExt cx="1422000" cy="288720"/>
            </a:xfrm>
          </p:grpSpPr>
          <p:sp>
            <p:nvSpPr>
              <p:cNvPr id="97" name=""/>
              <p:cNvSpPr/>
              <p:nvPr/>
            </p:nvSpPr>
            <p:spPr>
              <a:xfrm>
                <a:off x="826920" y="6093000"/>
                <a:ext cx="304560" cy="28872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99520" y="6093000"/>
                <a:ext cx="304560" cy="28872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71760" y="6093000"/>
                <a:ext cx="304560" cy="28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44360" y="6093000"/>
                <a:ext cx="304560" cy="288720"/>
              </a:xfrm>
              <a:prstGeom prst="triangle">
                <a:avLst>
                  <a:gd name="adj" fmla="val 50000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3924360" y="54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74200" y="6308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0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0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0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8" name=""/>
          <p:cNvSpPr/>
          <p:nvPr/>
        </p:nvSpPr>
        <p:spPr>
          <a:xfrm>
            <a:off x="118728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340000" y="3484440"/>
            <a:ext cx="4753080" cy="1386720"/>
            <a:chOff x="2340000" y="3484440"/>
            <a:chExt cx="4753080" cy="1386720"/>
          </a:xfrm>
        </p:grpSpPr>
        <p:sp>
          <p:nvSpPr>
            <p:cNvPr id="910" name=""/>
            <p:cNvSpPr/>
            <p:nvPr/>
          </p:nvSpPr>
          <p:spPr>
            <a:xfrm>
              <a:off x="2340000" y="456408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rame 1     Frame 2          Frame 3                  Fram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627280" y="3484440"/>
              <a:ext cx="4393800" cy="858960"/>
              <a:chOff x="2627280" y="3484440"/>
              <a:chExt cx="4393800" cy="85896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627280" y="3489120"/>
                <a:ext cx="316800" cy="854280"/>
                <a:chOff x="2627280" y="3489120"/>
                <a:chExt cx="316800" cy="85428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6272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68596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67732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3316680" y="3489120"/>
                <a:ext cx="633960" cy="854280"/>
                <a:chOff x="3316680" y="3489120"/>
                <a:chExt cx="633960" cy="85428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3316680" y="382896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63384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37356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69252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36528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70080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4321800" y="3489120"/>
                <a:ext cx="945720" cy="854280"/>
                <a:chOff x="4321800" y="3489120"/>
                <a:chExt cx="945720" cy="85428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432180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640400" y="382896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9507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00940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00940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8048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69908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37184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70736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5748120" y="3484440"/>
                <a:ext cx="1272960" cy="858960"/>
                <a:chOff x="5748120" y="3484440"/>
                <a:chExt cx="1272960" cy="8589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57481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0667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3856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7042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42744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42744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79816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1712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78988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2540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76296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6296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946" name=""/>
          <p:cNvGraphicFramePr/>
          <p:nvPr/>
        </p:nvGraphicFramePr>
        <p:xfrm>
          <a:off x="1547640" y="2614680"/>
          <a:ext cx="6120000" cy="669960"/>
        </p:xfrm>
        <a:graphic>
          <a:graphicData uri="http://schemas.openxmlformats.org/drawingml/2006/table">
            <a:tbl>
              <a:tblPr/>
              <a:tblGrid>
                <a:gridCol w="1368720"/>
                <a:gridCol w="934920"/>
                <a:gridCol w="961920"/>
                <a:gridCol w="982800"/>
                <a:gridCol w="936720"/>
                <a:gridCol w="934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7" name=""/>
          <p:cNvSpPr/>
          <p:nvPr/>
        </p:nvSpPr>
        <p:spPr>
          <a:xfrm>
            <a:off x="1258920" y="5157720"/>
            <a:ext cx="32418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dd 2 legs each time, skip count by 2 (recursive), legs go up by twos, bodies go up by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32360" y="5141880"/>
            <a:ext cx="309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ook at relationships across categories (function), double the body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360" y="242100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956720" y="2565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5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5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6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2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3" name=""/>
          <p:cNvSpPr/>
          <p:nvPr/>
        </p:nvSpPr>
        <p:spPr>
          <a:xfrm>
            <a:off x="82692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ing rela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16000" y="2565360"/>
            <a:ext cx="7201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uild and extend to the next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legs would the critter have the next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Keep extending the pattern, frame by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next year after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dentify a pattern (often a skip-counting patter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ush students to gener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legs will the critter have in 10 years? In 100 ye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can you find the number of legs at any 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6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7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7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7" name=""/>
          <p:cNvSpPr/>
          <p:nvPr/>
        </p:nvSpPr>
        <p:spPr>
          <a:xfrm>
            <a:off x="118728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2556000" y="2637000"/>
            <a:ext cx="4176720" cy="1007640"/>
            <a:chOff x="2556000" y="2637000"/>
            <a:chExt cx="4176720" cy="1007640"/>
          </a:xfrm>
        </p:grpSpPr>
        <p:grpSp>
          <p:nvGrpSpPr>
            <p:cNvPr id="979" name=""/>
            <p:cNvGrpSpPr/>
            <p:nvPr/>
          </p:nvGrpSpPr>
          <p:grpSpPr>
            <a:xfrm>
              <a:off x="2556000" y="2642760"/>
              <a:ext cx="495000" cy="1001880"/>
              <a:chOff x="2556000" y="2642760"/>
              <a:chExt cx="495000" cy="10018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2819520" y="2642760"/>
                <a:ext cx="231480" cy="1001880"/>
                <a:chOff x="2819520" y="2642760"/>
                <a:chExt cx="231480" cy="10018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28195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86236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8562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 rot="16200000">
                <a:off x="2564280" y="302256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210120" y="2642760"/>
              <a:ext cx="725760" cy="1001880"/>
              <a:chOff x="3210120" y="2642760"/>
              <a:chExt cx="725760" cy="100188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3472920" y="2642760"/>
                <a:ext cx="462960" cy="1001880"/>
                <a:chOff x="3472920" y="2642760"/>
                <a:chExt cx="462960" cy="10018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4729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70440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5143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74724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50820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75336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 rot="16200000">
                <a:off x="3218400" y="3017160"/>
                <a:ext cx="245160" cy="2620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4171320" y="2642760"/>
              <a:ext cx="953640" cy="1001880"/>
              <a:chOff x="4171320" y="2642760"/>
              <a:chExt cx="953640" cy="100188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4434120" y="2642760"/>
                <a:ext cx="690840" cy="1001880"/>
                <a:chOff x="4434120" y="2642760"/>
                <a:chExt cx="690840" cy="10018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44341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66668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9348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9363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93632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47696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7095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4708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156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 rot="16200000">
                <a:off x="4179600" y="300996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550120" y="2637000"/>
              <a:ext cx="1182600" cy="1007640"/>
              <a:chOff x="5550120" y="2637000"/>
              <a:chExt cx="1182600" cy="1007640"/>
            </a:xfrm>
          </p:grpSpPr>
          <p:sp>
            <p:nvSpPr>
              <p:cNvPr id="1007" name=""/>
              <p:cNvSpPr/>
              <p:nvPr/>
            </p:nvSpPr>
            <p:spPr>
              <a:xfrm>
                <a:off x="581076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03540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6868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0124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29892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298920" y="324036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3956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07248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33080" y="324036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078240" y="324036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4408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4080" y="324612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6200000">
                <a:off x="5558400" y="301788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20" name=""/>
          <p:cNvGraphicFramePr/>
          <p:nvPr/>
        </p:nvGraphicFramePr>
        <p:xfrm>
          <a:off x="1403280" y="4076640"/>
          <a:ext cx="6615000" cy="669960"/>
        </p:xfrm>
        <a:graphic>
          <a:graphicData uri="http://schemas.openxmlformats.org/drawingml/2006/table">
            <a:tbl>
              <a:tblPr/>
              <a:tblGrid>
                <a:gridCol w="1892160"/>
                <a:gridCol w="674640"/>
                <a:gridCol w="674640"/>
                <a:gridCol w="675000"/>
                <a:gridCol w="674640"/>
                <a:gridCol w="674640"/>
                <a:gridCol w="674640"/>
                <a:gridCol w="674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s and he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1" name=""/>
          <p:cNvSpPr/>
          <p:nvPr/>
        </p:nvSpPr>
        <p:spPr>
          <a:xfrm>
            <a:off x="3564000" y="508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at’s the re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4880" y="5589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oubles plu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02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02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03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5" name=""/>
          <p:cNvSpPr/>
          <p:nvPr/>
        </p:nvSpPr>
        <p:spPr>
          <a:xfrm>
            <a:off x="1187280" y="15573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43080" y="2492280"/>
            <a:ext cx="457200" cy="685800"/>
            <a:chOff x="1243080" y="2492280"/>
            <a:chExt cx="457200" cy="685800"/>
          </a:xfrm>
        </p:grpSpPr>
        <p:sp>
          <p:nvSpPr>
            <p:cNvPr id="1037" name=""/>
            <p:cNvSpPr/>
            <p:nvPr/>
          </p:nvSpPr>
          <p:spPr>
            <a:xfrm>
              <a:off x="135720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124308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55400" y="2947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043000" y="2492280"/>
            <a:ext cx="457200" cy="1144800"/>
            <a:chOff x="2043000" y="2492280"/>
            <a:chExt cx="457200" cy="1144800"/>
          </a:xfrm>
        </p:grpSpPr>
        <p:sp>
          <p:nvSpPr>
            <p:cNvPr id="1041" name=""/>
            <p:cNvSpPr/>
            <p:nvPr/>
          </p:nvSpPr>
          <p:spPr>
            <a:xfrm>
              <a:off x="215712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04300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2043000" y="2948760"/>
              <a:ext cx="457200" cy="2286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57120" y="3406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57120" y="31780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843280" y="2492280"/>
            <a:ext cx="457200" cy="1602000"/>
            <a:chOff x="2843280" y="2492280"/>
            <a:chExt cx="457200" cy="1602000"/>
          </a:xfrm>
        </p:grpSpPr>
        <p:sp>
          <p:nvSpPr>
            <p:cNvPr id="1047" name=""/>
            <p:cNvSpPr/>
            <p:nvPr/>
          </p:nvSpPr>
          <p:spPr>
            <a:xfrm>
              <a:off x="295740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284328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2843280" y="2948760"/>
              <a:ext cx="457200" cy="2286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57400" y="36352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57400" y="3406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57400" y="38638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843280" y="31780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2267640" y="5229360"/>
            <a:ext cx="4763160" cy="231480"/>
            <a:chOff x="2267640" y="5229360"/>
            <a:chExt cx="4763160" cy="231480"/>
          </a:xfrm>
        </p:grpSpPr>
        <p:sp>
          <p:nvSpPr>
            <p:cNvPr id="1055" name=""/>
            <p:cNvSpPr/>
            <p:nvPr/>
          </p:nvSpPr>
          <p:spPr>
            <a:xfrm rot="5400000">
              <a:off x="272052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002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rot="16200000">
              <a:off x="226764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732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rot="16200000">
              <a:off x="3141360" y="5230800"/>
              <a:ext cx="227880" cy="22824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18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5400000">
              <a:off x="383040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1656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rot="16200000">
              <a:off x="428364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448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716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520236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881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rot="16200000">
              <a:off x="5655600" y="5228640"/>
              <a:ext cx="22752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1167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435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7396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5400000">
              <a:off x="6802560" y="5230800"/>
              <a:ext cx="227880" cy="22824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859280" y="2714760"/>
            <a:ext cx="3200040" cy="336240"/>
            <a:chOff x="4859280" y="2714760"/>
            <a:chExt cx="3200040" cy="336240"/>
          </a:xfrm>
        </p:grpSpPr>
        <p:grpSp>
          <p:nvGrpSpPr>
            <p:cNvPr id="1074" name=""/>
            <p:cNvGrpSpPr/>
            <p:nvPr/>
          </p:nvGrpSpPr>
          <p:grpSpPr>
            <a:xfrm>
              <a:off x="4859280" y="2714760"/>
              <a:ext cx="228600" cy="336240"/>
              <a:chOff x="4859280" y="2714760"/>
              <a:chExt cx="228600" cy="336240"/>
            </a:xfrm>
          </p:grpSpPr>
          <p:sp>
            <p:nvSpPr>
              <p:cNvPr id="1075" name=""/>
              <p:cNvSpPr/>
              <p:nvPr/>
            </p:nvSpPr>
            <p:spPr>
              <a:xfrm>
                <a:off x="4859280" y="2822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4994640" y="27147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4882680" y="27183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907520" y="28886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02200" y="28922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0878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3164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5773680" y="2714760"/>
              <a:ext cx="228600" cy="336240"/>
              <a:chOff x="5773680" y="2714760"/>
              <a:chExt cx="228600" cy="336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5773680" y="2822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5909040" y="27147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flipV="1">
                <a:off x="5797080" y="27183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21920" y="28886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916600" y="28922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60022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308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594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6916680" y="2714760"/>
              <a:ext cx="228240" cy="336240"/>
              <a:chOff x="6916680" y="2714760"/>
              <a:chExt cx="228240" cy="336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6916680" y="282240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052040" y="2714760"/>
                <a:ext cx="532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940440" y="2718360"/>
                <a:ext cx="532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964560" y="28886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59240" y="28922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1452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738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024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310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356000" y="3500280"/>
            <a:ext cx="3390840" cy="1041480"/>
            <a:chOff x="4356000" y="3500280"/>
            <a:chExt cx="3390840" cy="1041480"/>
          </a:xfrm>
        </p:grpSpPr>
        <p:pic>
          <p:nvPicPr>
            <p:cNvPr id="1102" name="" descr=""/>
            <p:cNvPicPr/>
            <p:nvPr/>
          </p:nvPicPr>
          <p:blipFill>
            <a:blip r:embed="rId1"/>
            <a:stretch/>
          </p:blipFill>
          <p:spPr>
            <a:xfrm>
              <a:off x="435600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2"/>
            <a:stretch/>
          </p:blipFill>
          <p:spPr>
            <a:xfrm>
              <a:off x="538452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"/>
            <a:stretch/>
          </p:blipFill>
          <p:spPr>
            <a:xfrm>
              <a:off x="664200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4"/>
            <a:stretch/>
          </p:blipFill>
          <p:spPr>
            <a:xfrm>
              <a:off x="5536800" y="3652560"/>
              <a:ext cx="7999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5"/>
            <a:stretch/>
          </p:blipFill>
          <p:spPr>
            <a:xfrm>
              <a:off x="6794280" y="3652560"/>
              <a:ext cx="7999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6"/>
            <a:stretch/>
          </p:blipFill>
          <p:spPr>
            <a:xfrm>
              <a:off x="6946920" y="3804840"/>
              <a:ext cx="799920" cy="73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"/>
          <p:cNvGrpSpPr/>
          <p:nvPr/>
        </p:nvGrpSpPr>
        <p:grpSpPr>
          <a:xfrm>
            <a:off x="789480" y="4508640"/>
            <a:ext cx="4274280" cy="350280"/>
            <a:chOff x="789480" y="4508640"/>
            <a:chExt cx="4274280" cy="350280"/>
          </a:xfrm>
        </p:grpSpPr>
        <p:sp>
          <p:nvSpPr>
            <p:cNvPr id="1109" name=""/>
            <p:cNvSpPr/>
            <p:nvPr/>
          </p:nvSpPr>
          <p:spPr>
            <a:xfrm>
              <a:off x="4492800" y="450864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789480" y="4515840"/>
              <a:ext cx="4274280" cy="343080"/>
              <a:chOff x="789480" y="4515840"/>
              <a:chExt cx="4274280" cy="343080"/>
            </a:xfrm>
          </p:grpSpPr>
          <p:grpSp>
            <p:nvGrpSpPr>
              <p:cNvPr id="1111" name=""/>
              <p:cNvGrpSpPr/>
              <p:nvPr/>
            </p:nvGrpSpPr>
            <p:grpSpPr>
              <a:xfrm>
                <a:off x="789480" y="4515840"/>
                <a:ext cx="772560" cy="343080"/>
                <a:chOff x="789480" y="4515840"/>
                <a:chExt cx="772560" cy="3430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8269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98424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78948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193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37628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118188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99036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1932120" y="4515840"/>
                <a:ext cx="1188720" cy="343080"/>
                <a:chOff x="1932120" y="4515840"/>
                <a:chExt cx="1188720" cy="34308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96956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12652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193212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36196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251892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2324520" y="4539240"/>
                  <a:ext cx="17460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13336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V="1">
                  <a:off x="272412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53260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7781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93544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459240" y="4515840"/>
                <a:ext cx="1188720" cy="343080"/>
                <a:chOff x="3459240" y="4515840"/>
                <a:chExt cx="1188720" cy="3430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49668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65364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345924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88908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04604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3851640" y="4539240"/>
                  <a:ext cx="17460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66048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425124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05972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30524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6256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3" name=""/>
              <p:cNvSpPr/>
              <p:nvPr/>
            </p:nvSpPr>
            <p:spPr>
              <a:xfrm flipV="1">
                <a:off x="4675680" y="4539240"/>
                <a:ext cx="174240" cy="29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721040" y="4858920"/>
                <a:ext cx="34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878720" y="4535640"/>
                <a:ext cx="159480" cy="30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6" name=""/>
          <p:cNvSpPr/>
          <p:nvPr/>
        </p:nvSpPr>
        <p:spPr>
          <a:xfrm>
            <a:off x="611280" y="5950080"/>
            <a:ext cx="669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aterpillars, Worms and Pattern Block Trees are adapted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ssons for Algebraic Thinking: Grades K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pp.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11, 89–98, 157–170, by Leyani von Rotz and Marilyn Burns. Copyright © 2002 by Math Solutions Public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1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1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1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7" name=""/>
          <p:cNvSpPr/>
          <p:nvPr/>
        </p:nvSpPr>
        <p:spPr>
          <a:xfrm>
            <a:off x="2195640" y="2924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 rules reveal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athematical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1916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 rules descri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ow a pattern grow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can be used to make logical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redic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258920" y="436572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76720" y="5229360"/>
            <a:ext cx="28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hat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hat stays the s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835280" y="3645000"/>
            <a:ext cx="5255640" cy="1296360"/>
            <a:chOff x="1835280" y="3645000"/>
            <a:chExt cx="5255640" cy="1296360"/>
          </a:xfrm>
        </p:grpSpPr>
        <p:grpSp>
          <p:nvGrpSpPr>
            <p:cNvPr id="1162" name=""/>
            <p:cNvGrpSpPr/>
            <p:nvPr/>
          </p:nvGrpSpPr>
          <p:grpSpPr>
            <a:xfrm>
              <a:off x="1835280" y="3652560"/>
              <a:ext cx="622800" cy="1288800"/>
              <a:chOff x="1835280" y="3652560"/>
              <a:chExt cx="622800" cy="128880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2166840" y="3652560"/>
                <a:ext cx="291240" cy="1288800"/>
                <a:chOff x="2166840" y="3652560"/>
                <a:chExt cx="291240" cy="12888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1668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2048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21292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7" name=""/>
              <p:cNvSpPr/>
              <p:nvPr/>
            </p:nvSpPr>
            <p:spPr>
              <a:xfrm rot="16200000">
                <a:off x="1842120" y="4145040"/>
                <a:ext cx="31572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2658600" y="3652560"/>
              <a:ext cx="913680" cy="1288800"/>
              <a:chOff x="2658600" y="3652560"/>
              <a:chExt cx="913680" cy="128880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2989440" y="3652560"/>
                <a:ext cx="582840" cy="1288800"/>
                <a:chOff x="2989440" y="3652560"/>
                <a:chExt cx="582840" cy="12888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29894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2810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04164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33468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03408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34260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rot="16200000">
                <a:off x="2665440" y="413856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3867840" y="3652560"/>
              <a:ext cx="1200240" cy="1288800"/>
              <a:chOff x="3867840" y="3652560"/>
              <a:chExt cx="1200240" cy="1288800"/>
            </a:xfrm>
          </p:grpSpPr>
          <p:grpSp>
            <p:nvGrpSpPr>
              <p:cNvPr id="1178" name=""/>
              <p:cNvGrpSpPr/>
              <p:nvPr/>
            </p:nvGrpSpPr>
            <p:grpSpPr>
              <a:xfrm>
                <a:off x="4198680" y="3652560"/>
                <a:ext cx="869400" cy="1288800"/>
                <a:chOff x="4198680" y="3652560"/>
                <a:chExt cx="869400" cy="128880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419868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9136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768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83084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3084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25232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54536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24476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55292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8" name=""/>
              <p:cNvSpPr/>
              <p:nvPr/>
            </p:nvSpPr>
            <p:spPr>
              <a:xfrm rot="16200000">
                <a:off x="3874680" y="412848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5603040" y="3645000"/>
              <a:ext cx="1487880" cy="1296000"/>
              <a:chOff x="5603040" y="3645000"/>
              <a:chExt cx="1487880" cy="1296000"/>
            </a:xfrm>
          </p:grpSpPr>
          <p:sp>
            <p:nvSpPr>
              <p:cNvPr id="1190" name=""/>
              <p:cNvSpPr/>
              <p:nvPr/>
            </p:nvSpPr>
            <p:spPr>
              <a:xfrm>
                <a:off x="593136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21360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50700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79968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45520" y="36450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5520" y="44208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67360" y="364500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60400" y="36450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59080" y="4420800"/>
                <a:ext cx="18504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267600" y="4420800"/>
                <a:ext cx="18504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853680" y="364500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853680" y="442836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6200000">
                <a:off x="5609880" y="413856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0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0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1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3" name=""/>
          <p:cNvSpPr/>
          <p:nvPr/>
        </p:nvSpPr>
        <p:spPr>
          <a:xfrm>
            <a:off x="1763640" y="1844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pattern rule must account fo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l eleme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a pattern, including th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irst on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2411280" y="2852640"/>
            <a:ext cx="4176720" cy="1007640"/>
            <a:chOff x="2411280" y="2852640"/>
            <a:chExt cx="4176720" cy="1007640"/>
          </a:xfrm>
        </p:grpSpPr>
        <p:grpSp>
          <p:nvGrpSpPr>
            <p:cNvPr id="1215" name=""/>
            <p:cNvGrpSpPr/>
            <p:nvPr/>
          </p:nvGrpSpPr>
          <p:grpSpPr>
            <a:xfrm>
              <a:off x="2411280" y="2858400"/>
              <a:ext cx="495000" cy="1001880"/>
              <a:chOff x="2411280" y="2858400"/>
              <a:chExt cx="495000" cy="100188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2674800" y="2858400"/>
                <a:ext cx="231480" cy="1001880"/>
                <a:chOff x="2674800" y="2858400"/>
                <a:chExt cx="231480" cy="10018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26748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71764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7115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"/>
              <p:cNvSpPr/>
              <p:nvPr/>
            </p:nvSpPr>
            <p:spPr>
              <a:xfrm rot="16200000">
                <a:off x="2419560" y="323820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3065400" y="2858400"/>
              <a:ext cx="725760" cy="1001880"/>
              <a:chOff x="3065400" y="2858400"/>
              <a:chExt cx="725760" cy="100188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3328200" y="2858400"/>
                <a:ext cx="462960" cy="1001880"/>
                <a:chOff x="3328200" y="2858400"/>
                <a:chExt cx="462960" cy="10018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33282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5968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3696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60252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36348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60864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"/>
              <p:cNvSpPr/>
              <p:nvPr/>
            </p:nvSpPr>
            <p:spPr>
              <a:xfrm rot="16200000">
                <a:off x="3073680" y="3232800"/>
                <a:ext cx="245160" cy="2620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4026600" y="2858400"/>
              <a:ext cx="953640" cy="1001880"/>
              <a:chOff x="4026600" y="2858400"/>
              <a:chExt cx="953640" cy="1001880"/>
            </a:xfrm>
          </p:grpSpPr>
          <p:grpSp>
            <p:nvGrpSpPr>
              <p:cNvPr id="1231" name=""/>
              <p:cNvGrpSpPr/>
              <p:nvPr/>
            </p:nvGrpSpPr>
            <p:grpSpPr>
              <a:xfrm>
                <a:off x="4289400" y="2858400"/>
                <a:ext cx="690840" cy="1001880"/>
                <a:chOff x="4289400" y="2858400"/>
                <a:chExt cx="690840" cy="10018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42894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52196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74876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7916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79160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33224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5648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3261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5709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1" name=""/>
              <p:cNvSpPr/>
              <p:nvPr/>
            </p:nvSpPr>
            <p:spPr>
              <a:xfrm rot="16200000">
                <a:off x="4034880" y="322560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5405400" y="2852640"/>
              <a:ext cx="1182600" cy="1007640"/>
              <a:chOff x="5405400" y="2852640"/>
              <a:chExt cx="1182600" cy="1007640"/>
            </a:xfrm>
          </p:grpSpPr>
          <p:sp>
            <p:nvSpPr>
              <p:cNvPr id="1243" name=""/>
              <p:cNvSpPr/>
              <p:nvPr/>
            </p:nvSpPr>
            <p:spPr>
              <a:xfrm>
                <a:off x="566604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9068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12396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35652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15420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154200" y="3456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69484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2776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688360" y="345600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933520" y="345600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9936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99360" y="346176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16200000">
                <a:off x="5413680" y="323352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56" name=""/>
          <p:cNvGraphicFramePr/>
          <p:nvPr/>
        </p:nvGraphicFramePr>
        <p:xfrm>
          <a:off x="1332000" y="4149720"/>
          <a:ext cx="6615000" cy="669960"/>
        </p:xfrm>
        <a:graphic>
          <a:graphicData uri="http://schemas.openxmlformats.org/drawingml/2006/table">
            <a:tbl>
              <a:tblPr/>
              <a:tblGrid>
                <a:gridCol w="1892160"/>
                <a:gridCol w="674640"/>
                <a:gridCol w="674640"/>
                <a:gridCol w="675000"/>
                <a:gridCol w="674640"/>
                <a:gridCol w="674640"/>
                <a:gridCol w="674640"/>
                <a:gridCol w="674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7" name=""/>
          <p:cNvSpPr/>
          <p:nvPr/>
        </p:nvSpPr>
        <p:spPr>
          <a:xfrm>
            <a:off x="1835280" y="5157720"/>
            <a:ext cx="61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dy par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Start at 4 and add 3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Start at 1 and add 1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lationship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dy par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 times the age plu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6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6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6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9" name=""/>
          <p:cNvSpPr/>
          <p:nvPr/>
        </p:nvSpPr>
        <p:spPr>
          <a:xfrm>
            <a:off x="2268360" y="1628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Patter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11280" y="558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 Charts, Hundred Charts, What Are the C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2433600" cy="197172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1260360" y="2460600"/>
            <a:ext cx="2560680" cy="208908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2470320" cy="205596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1762200" cy="176220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8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8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8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960720" cy="341172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wo of Everything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by Lily Toy 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95280" y="609300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llustrations on slides 27 to 36 and text on slides 28 to 34 are reproduced from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Two of Everything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by Lily Toy Hong. 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993 by Lily Toy Hong. Excerpts reprinted by permission of Albert Whitman &amp; Company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1181160" y="515880"/>
            <a:ext cx="6919920" cy="589932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1152360" y="279360"/>
            <a:ext cx="7164720" cy="602604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3528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y Teach Patterns and Pre-Algeb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4437000"/>
            <a:ext cx="4321080" cy="12805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ing with patterns enables students to make connections both within and beyond mathema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1296720" cy="113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95640" y="5084640"/>
            <a:ext cx="1296720" cy="12574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1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1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826920" y="1413000"/>
            <a:ext cx="5185080" cy="12805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rough the study of patterns, students come to interpret their world mathematically and value mathematics as a useful t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0800000">
            <a:off x="3779640" y="2924280"/>
            <a:ext cx="228420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1282680" cy="99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659640" y="2637000"/>
            <a:ext cx="1409760" cy="95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80280" cy="624672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069320" cy="61470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755640" y="184320"/>
            <a:ext cx="7416720" cy="63054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1090440" y="425520"/>
            <a:ext cx="7153560" cy="585144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171440" y="328680"/>
            <a:ext cx="7072560" cy="597204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1166760" y="433440"/>
            <a:ext cx="6934320" cy="588636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2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2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3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4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97080" cy="266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36" name=""/>
          <p:cNvSpPr/>
          <p:nvPr/>
        </p:nvSpPr>
        <p:spPr>
          <a:xfrm>
            <a:off x="4356000" y="2133720"/>
            <a:ext cx="4032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ould you rather have a doubling pot and a loonie, if you could only use the pot ten times, or…$1 0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: Excerpted and reprinted with permission from National Council of Teachers of Mathematics. (2003). </a:t>
            </a:r>
            <a:r>
              <a:rPr b="0" i="1" lang="en-CA" sz="1000" spc="-1" strike="noStrike">
                <a:solidFill>
                  <a:srgbClr val="000000"/>
                </a:solidFill>
                <a:latin typeface="Times New Roman"/>
              </a:rPr>
              <a:t>Reflections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. Retrieved November 20, 2006, from http://my.nctm.org/eresources/reflections, copyright 2003 by the National Council of Teachers of Mathematics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427640" y="4076640"/>
            <a:ext cx="4032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reate your own magic pot.  Make up a pattern rule for your pot.  Show what happens on an in-out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: Adapted from 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Lessons for Algebraic Thinking: Grades K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, by Leyani von Rotz and Marilyn Burns. 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002 by Math Solutions Public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4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4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4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/>
          <p:nvPr/>
        </p:nvSpPr>
        <p:spPr>
          <a:xfrm>
            <a:off x="4381560" y="3278160"/>
            <a:ext cx="50940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743280" y="2421000"/>
            <a:ext cx="382680" cy="4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340000" y="2421000"/>
            <a:ext cx="4592520" cy="857160"/>
            <a:chOff x="2340000" y="2421000"/>
            <a:chExt cx="4592520" cy="857160"/>
          </a:xfrm>
        </p:grpSpPr>
        <p:sp>
          <p:nvSpPr>
            <p:cNvPr id="1352" name=""/>
            <p:cNvSpPr/>
            <p:nvPr/>
          </p:nvSpPr>
          <p:spPr>
            <a:xfrm>
              <a:off x="2340000" y="3278160"/>
              <a:ext cx="45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560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78280" y="284940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8136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4328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5632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7364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484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0216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19840" y="284940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3" name=""/>
          <p:cNvSpPr/>
          <p:nvPr/>
        </p:nvSpPr>
        <p:spPr>
          <a:xfrm>
            <a:off x="370836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82560" y="5268240"/>
            <a:ext cx="79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=) expresses a relationship of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etween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equality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presses a relationship of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mbala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494080" y="1826640"/>
            <a:ext cx="4301280" cy="2257560"/>
            <a:chOff x="2494080" y="1826640"/>
            <a:chExt cx="4301280" cy="2257560"/>
          </a:xfrm>
        </p:grpSpPr>
        <p:sp>
          <p:nvSpPr>
            <p:cNvPr id="1366" name=""/>
            <p:cNvSpPr/>
            <p:nvPr/>
          </p:nvSpPr>
          <p:spPr>
            <a:xfrm>
              <a:off x="2494080" y="2474640"/>
              <a:ext cx="430128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231200">
              <a:off x="2796480" y="22158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1231200">
              <a:off x="3154680" y="235008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231200">
              <a:off x="3120480" y="187992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1231200">
              <a:off x="3871080" y="261828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231200">
              <a:off x="5812920" y="288756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1231200">
              <a:off x="5454720" y="275328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231200">
              <a:off x="5783400" y="333396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231200">
              <a:off x="5424840" y="319968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231200">
              <a:off x="5066640" y="306576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372276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+ 1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9" name=""/>
          <p:cNvSpPr/>
          <p:nvPr/>
        </p:nvSpPr>
        <p:spPr>
          <a:xfrm>
            <a:off x="1042920" y="206064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What do elementary students think the equal sign me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033800" cy="3130560"/>
          </a:xfrm>
          <a:prstGeom prst="rect">
            <a:avLst/>
          </a:prstGeom>
          <a:ln w="0">
            <a:noFill/>
          </a:ln>
        </p:spPr>
      </p:pic>
      <p:sp>
        <p:nvSpPr>
          <p:cNvPr id="139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9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9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40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2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3" name=""/>
          <p:cNvSpPr/>
          <p:nvPr/>
        </p:nvSpPr>
        <p:spPr>
          <a:xfrm>
            <a:off x="971640" y="5788800"/>
            <a:ext cx="71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: Excerpted and reprinted with permission from Fennel, F., &amp; Rowan, T. (January 2001). Representation: An Important Process for Teaching and Learning Mathematics.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Teaching Children Mathematics, 7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5), 288–292, copyright 2001 by the National Council of Teachers of Mathematics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rcRect l="8854" t="7730" r="54539" b="67242"/>
          <a:stretch/>
        </p:blipFill>
        <p:spPr>
          <a:xfrm>
            <a:off x="4859280" y="4005360"/>
            <a:ext cx="3097440" cy="161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5" name="" descr=""/>
          <p:cNvPicPr/>
          <p:nvPr/>
        </p:nvPicPr>
        <p:blipFill>
          <a:blip r:embed="rId2"/>
          <a:srcRect l="55571" t="13501" r="6544" b="51868"/>
          <a:stretch/>
        </p:blipFill>
        <p:spPr>
          <a:xfrm>
            <a:off x="1547640" y="3716280"/>
            <a:ext cx="3097440" cy="190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6" name="" descr=""/>
          <p:cNvPicPr/>
          <p:nvPr/>
        </p:nvPicPr>
        <p:blipFill>
          <a:blip r:embed="rId3"/>
          <a:srcRect l="8854" t="57768" r="57074" b="5643"/>
          <a:stretch/>
        </p:blipFill>
        <p:spPr>
          <a:xfrm>
            <a:off x="2124000" y="1916280"/>
            <a:ext cx="2519280" cy="163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7" name="" descr=""/>
          <p:cNvPicPr/>
          <p:nvPr/>
        </p:nvPicPr>
        <p:blipFill>
          <a:blip r:embed="rId4"/>
          <a:srcRect l="58106" t="57768" r="14142" b="13330"/>
          <a:stretch/>
        </p:blipFill>
        <p:spPr>
          <a:xfrm>
            <a:off x="4932360" y="1941480"/>
            <a:ext cx="2519280" cy="1852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1979640" y="620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y Teach Patterns and Pre-Algeb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484280"/>
            <a:ext cx="5599080" cy="1554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 generalizing patterns, students develop strategies that can be used to solve a wide range of problems. Mathematics is seen as reasoning rather than solving one unrelated problem after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77080" y="1557360"/>
            <a:ext cx="1596600" cy="1157400"/>
            <a:chOff x="6877080" y="1557360"/>
            <a:chExt cx="1596600" cy="1157400"/>
          </a:xfrm>
        </p:grpSpPr>
        <p:pic>
          <p:nvPicPr>
            <p:cNvPr id="136" name="HANGR001" descr=""/>
            <p:cNvPicPr/>
            <p:nvPr/>
          </p:nvPicPr>
          <p:blipFill>
            <a:blip r:embed="rId1"/>
            <a:stretch/>
          </p:blipFill>
          <p:spPr>
            <a:xfrm>
              <a:off x="6877080" y="1557360"/>
              <a:ext cx="1596600" cy="104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7022880" y="2349720"/>
              <a:ext cx="1291680" cy="365040"/>
              <a:chOff x="7022880" y="2349720"/>
              <a:chExt cx="1291680" cy="365040"/>
            </a:xfrm>
          </p:grpSpPr>
          <p:sp>
            <p:nvSpPr>
              <p:cNvPr id="138" name=""/>
              <p:cNvSpPr/>
              <p:nvPr/>
            </p:nvSpPr>
            <p:spPr>
              <a:xfrm>
                <a:off x="7484040" y="2349720"/>
                <a:ext cx="369000" cy="36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440" bIns="13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1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022880" y="2440800"/>
                <a:ext cx="369000" cy="182520"/>
                <a:chOff x="7022880" y="2440800"/>
                <a:chExt cx="369000" cy="182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2288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1504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0720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29972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9188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945560" y="2349720"/>
                <a:ext cx="369000" cy="182520"/>
                <a:chOff x="7945560" y="2349720"/>
                <a:chExt cx="369000" cy="182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4556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3772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12988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2240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1456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" name=""/>
          <p:cNvSpPr/>
          <p:nvPr/>
        </p:nvSpPr>
        <p:spPr>
          <a:xfrm>
            <a:off x="4211640" y="3573360"/>
            <a:ext cx="4392720" cy="23778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ploring patterns and pre-algebra in elementary school lays the foundation for the study of formal algebra. Rather than a new topic, algebra becomes a natural extension of the elementary curriculum and is often defined as generalized arithmetic and geom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8400" y="4670280"/>
            <a:ext cx="33948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670280"/>
            <a:ext cx="30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2840" y="4441680"/>
            <a:ext cx="25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6988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812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6088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0528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656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9160" y="4441680"/>
            <a:ext cx="2574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356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66920" y="508464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00360" y="4100400"/>
            <a:ext cx="72684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41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41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41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9" name=""/>
          <p:cNvSpPr/>
          <p:nvPr/>
        </p:nvSpPr>
        <p:spPr>
          <a:xfrm>
            <a:off x="552600" y="4445280"/>
            <a:ext cx="8208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4960" indent="-26496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quality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equalit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etween quantities can be consider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5 =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 (3 + 5 =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 (8 = 5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4 + 4 = 3 +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187280" y="1987560"/>
            <a:ext cx="3095640" cy="936720"/>
            <a:chOff x="1187280" y="1987560"/>
            <a:chExt cx="3095640" cy="936720"/>
          </a:xfrm>
        </p:grpSpPr>
        <p:sp>
          <p:nvSpPr>
            <p:cNvPr id="1422" name=""/>
            <p:cNvSpPr/>
            <p:nvPr/>
          </p:nvSpPr>
          <p:spPr>
            <a:xfrm>
              <a:off x="2556000" y="2563920"/>
              <a:ext cx="34272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87280" y="255744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389400" y="198756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32000" y="1987560"/>
              <a:ext cx="25740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1000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51160" y="227340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99412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092320" y="198756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35280" y="198756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2732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968480" y="227340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71144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1187280" y="3000240"/>
            <a:ext cx="3095640" cy="1220760"/>
            <a:chOff x="1187280" y="3000240"/>
            <a:chExt cx="3095640" cy="1220760"/>
          </a:xfrm>
        </p:grpSpPr>
        <p:sp>
          <p:nvSpPr>
            <p:cNvPr id="1435" name=""/>
            <p:cNvSpPr/>
            <p:nvPr/>
          </p:nvSpPr>
          <p:spPr>
            <a:xfrm>
              <a:off x="2556000" y="3860640"/>
              <a:ext cx="34272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87280" y="385452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87280" y="3570120"/>
              <a:ext cx="25740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44468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11120" y="32842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94080" y="32842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37040" y="328428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1000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51160" y="3570120"/>
              <a:ext cx="2588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9412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236680" y="32860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979640" y="328608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70240" y="357192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1400" y="357192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54360" y="357192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63800" y="3571920"/>
              <a:ext cx="258840" cy="28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52920" y="32860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05240" y="300024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4858920" y="1700280"/>
            <a:ext cx="3095640" cy="1217520"/>
            <a:chOff x="4858920" y="1700280"/>
            <a:chExt cx="3095640" cy="1217520"/>
          </a:xfrm>
        </p:grpSpPr>
        <p:sp>
          <p:nvSpPr>
            <p:cNvPr id="1454" name=""/>
            <p:cNvSpPr/>
            <p:nvPr/>
          </p:nvSpPr>
          <p:spPr>
            <a:xfrm>
              <a:off x="6229440" y="2557440"/>
              <a:ext cx="34308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4858920" y="1700280"/>
              <a:ext cx="3095640" cy="857160"/>
              <a:chOff x="4858920" y="1700280"/>
              <a:chExt cx="3095640" cy="857160"/>
            </a:xfrm>
          </p:grpSpPr>
          <p:sp>
            <p:nvSpPr>
              <p:cNvPr id="1456" name=""/>
              <p:cNvSpPr/>
              <p:nvPr/>
            </p:nvSpPr>
            <p:spPr>
              <a:xfrm flipH="1">
                <a:off x="4858920" y="2554560"/>
                <a:ext cx="30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7696800" y="2270160"/>
                <a:ext cx="25740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744012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571520" y="19843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5488560" y="19843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5747760" y="1984320"/>
                <a:ext cx="2570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537480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631480" y="2270160"/>
                <a:ext cx="2588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589068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6645960" y="19861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905160" y="1986120"/>
                <a:ext cx="2570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514560" y="2271960"/>
                <a:ext cx="2570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6771240" y="2271960"/>
                <a:ext cx="2588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7030440" y="2271960"/>
                <a:ext cx="2570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118840" y="2271960"/>
                <a:ext cx="25884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5229720" y="19861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477400" y="170028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3" name=""/>
          <p:cNvGrpSpPr/>
          <p:nvPr/>
        </p:nvGrpSpPr>
        <p:grpSpPr>
          <a:xfrm>
            <a:off x="4932360" y="3284640"/>
            <a:ext cx="3095640" cy="936000"/>
            <a:chOff x="4932360" y="3284640"/>
            <a:chExt cx="3095640" cy="936000"/>
          </a:xfrm>
        </p:grpSpPr>
        <p:sp>
          <p:nvSpPr>
            <p:cNvPr id="1474" name=""/>
            <p:cNvSpPr/>
            <p:nvPr/>
          </p:nvSpPr>
          <p:spPr>
            <a:xfrm>
              <a:off x="6300720" y="3860640"/>
              <a:ext cx="343080" cy="36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32360" y="38541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5794200" y="3284640"/>
              <a:ext cx="517320" cy="569160"/>
              <a:chOff x="5794200" y="3284640"/>
              <a:chExt cx="517320" cy="569160"/>
            </a:xfrm>
          </p:grpSpPr>
          <p:sp>
            <p:nvSpPr>
              <p:cNvPr id="1477" name=""/>
              <p:cNvSpPr/>
              <p:nvPr/>
            </p:nvSpPr>
            <p:spPr>
              <a:xfrm>
                <a:off x="6053040" y="3284640"/>
                <a:ext cx="25848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794200" y="328464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044760" y="3570120"/>
                <a:ext cx="2588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94200" y="356220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060880" y="3284640"/>
              <a:ext cx="517320" cy="569160"/>
              <a:chOff x="5060880" y="3284640"/>
              <a:chExt cx="517320" cy="569160"/>
            </a:xfrm>
          </p:grpSpPr>
          <p:sp>
            <p:nvSpPr>
              <p:cNvPr id="1482" name=""/>
              <p:cNvSpPr/>
              <p:nvPr/>
            </p:nvSpPr>
            <p:spPr>
              <a:xfrm>
                <a:off x="5319720" y="3284640"/>
                <a:ext cx="25848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060880" y="328464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311440" y="3570120"/>
                <a:ext cx="2588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60880" y="356220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6586560" y="3570120"/>
              <a:ext cx="257040" cy="2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43600" y="3570120"/>
              <a:ext cx="257400" cy="2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10400" y="3284640"/>
              <a:ext cx="258840" cy="28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35960" y="3286080"/>
              <a:ext cx="258480" cy="285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78560" y="3286080"/>
              <a:ext cx="257400" cy="285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69160" y="357156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510320" y="357156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53280" y="357156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49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49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0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505" name=""/>
          <p:cNvGraphicFramePr/>
          <p:nvPr/>
        </p:nvGraphicFramePr>
        <p:xfrm>
          <a:off x="1116000" y="2492280"/>
          <a:ext cx="6985080" cy="1940040"/>
        </p:xfrm>
        <a:graphic>
          <a:graphicData uri="http://schemas.openxmlformats.org/drawingml/2006/table">
            <a:tbl>
              <a:tblPr/>
              <a:tblGrid>
                <a:gridCol w="1763640"/>
                <a:gridCol w="1046160"/>
                <a:gridCol w="1042920"/>
                <a:gridCol w="1044720"/>
                <a:gridCol w="1044720"/>
                <a:gridCol w="10429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5080"/>
                          <a:tab algn="ctr" pos="493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and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1 an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3 an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5 an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506" name=""/>
          <p:cNvGrpSpPr/>
          <p:nvPr/>
        </p:nvGrpSpPr>
        <p:grpSpPr>
          <a:xfrm>
            <a:off x="3206160" y="1627920"/>
            <a:ext cx="2820240" cy="642600"/>
            <a:chOff x="3206160" y="1627920"/>
            <a:chExt cx="2820240" cy="642600"/>
          </a:xfrm>
        </p:grpSpPr>
        <p:sp>
          <p:nvSpPr>
            <p:cNvPr id="1507" name=""/>
            <p:cNvSpPr/>
            <p:nvPr/>
          </p:nvSpPr>
          <p:spPr>
            <a:xfrm>
              <a:off x="3206160" y="1627920"/>
              <a:ext cx="28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600" spc="-1" strike="noStrike">
                  <a:solidFill>
                    <a:srgbClr val="000000"/>
                  </a:solidFill>
                  <a:latin typeface="Arial"/>
                </a:rPr>
                <a:t>8 + 4 =    + 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859280" y="1771560"/>
              <a:ext cx="28728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11280" y="6020640"/>
            <a:ext cx="777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67800" y="4723920"/>
            <a:ext cx="79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comes next: 8 + 4 = 12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ll the numbers (overgeneralizing associative property): 8 + 4 = 17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e problem: 8 + 4 = 12 + 5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2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1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1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2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3" name=""/>
          <p:cNvSpPr/>
          <p:nvPr/>
        </p:nvSpPr>
        <p:spPr>
          <a:xfrm>
            <a:off x="971640" y="2060640"/>
            <a:ext cx="7272360" cy="2212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in: Second-grad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8 + 27 =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+ 2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5" name=""/>
          <p:cNvSpPr/>
          <p:nvPr/>
        </p:nvSpPr>
        <p:spPr>
          <a:xfrm>
            <a:off x="971640" y="4221000"/>
            <a:ext cx="7272360" cy="64260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enty-nine is 2 more than 27, so the number in the box has to b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less than 18 to make the 2 sides equal.  So it’s 16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4360" y="5949360"/>
            <a:ext cx="77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3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3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3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8" name=""/>
          <p:cNvSpPr txBox="1"/>
          <p:nvPr/>
        </p:nvSpPr>
        <p:spPr>
          <a:xfrm>
            <a:off x="1403280" y="54936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2411280" y="5164200"/>
            <a:ext cx="4537080" cy="642600"/>
            <a:chOff x="2411280" y="5164200"/>
            <a:chExt cx="4537080" cy="642600"/>
          </a:xfrm>
        </p:grpSpPr>
        <p:sp>
          <p:nvSpPr>
            <p:cNvPr id="1540" name=""/>
            <p:cNvSpPr/>
            <p:nvPr/>
          </p:nvSpPr>
          <p:spPr>
            <a:xfrm>
              <a:off x="2411280" y="5164200"/>
              <a:ext cx="453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600" spc="-1" strike="noStrike">
                  <a:solidFill>
                    <a:srgbClr val="000000"/>
                  </a:solidFill>
                  <a:latin typeface="Arial"/>
                </a:rPr>
                <a:t>4 + 5 =   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88080" y="527976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2300400" y="1714680"/>
            <a:ext cx="4543200" cy="342900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rot="20024400">
            <a:off x="1476360" y="1655280"/>
            <a:ext cx="12240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Ke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84360" y="6020640"/>
            <a:ext cx="74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6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935080" cy="371448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2124000" y="141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 – Double Do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25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2590920" cy="120024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6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6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6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1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2" name=""/>
          <p:cNvSpPr/>
          <p:nvPr/>
        </p:nvSpPr>
        <p:spPr>
          <a:xfrm>
            <a:off x="262728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 Lessons – 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838520" y="2275920"/>
            <a:ext cx="3503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8 = 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8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5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4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796000" y="2565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eloping an understanding of the equal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3276720" y="3006720"/>
            <a:ext cx="2232000" cy="215748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2136600" cy="230976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826920" y="5949360"/>
            <a:ext cx="77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9" name=""/>
          <p:cNvSpPr/>
          <p:nvPr/>
        </p:nvSpPr>
        <p:spPr>
          <a:xfrm>
            <a:off x="1258920" y="141300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rue/False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910880" y="2132280"/>
            <a:ext cx="2370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 +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0 +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3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4572000" y="2565360"/>
            <a:ext cx="3314880" cy="1482120"/>
          </a:xfrm>
          <a:prstGeom prst="flowChartDocumen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ing zero to introduce part-part = part-part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24000" y="59871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could you change the false statements so that they are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571280" y="4581360"/>
            <a:ext cx="2305080" cy="571680"/>
          </a:xfrm>
          <a:prstGeom prst="flowChartDocumen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910880" y="4003920"/>
            <a:ext cx="2207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56 = 50 +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87 = 7 + 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3 = 9 +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4 = 80 +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4 = 70 +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9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9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0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5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6" name=""/>
          <p:cNvSpPr/>
          <p:nvPr/>
        </p:nvSpPr>
        <p:spPr>
          <a:xfrm>
            <a:off x="2556000" y="1413000"/>
            <a:ext cx="41767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termine if these equations are true or false without calculating the actual sum or difference. Use relational think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340720" y="3715200"/>
            <a:ext cx="47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7 + 56 = 39 +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3 – 27 = 34 –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71 – 382 = 47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– 3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674 – 389 = 664 – 3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83 – 529 = 83 –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6659640" y="2349360"/>
            <a:ext cx="1584360" cy="1532160"/>
          </a:xfrm>
          <a:prstGeom prst="rect">
            <a:avLst/>
          </a:prstGeom>
          <a:ln w="0">
            <a:noFill/>
          </a:ln>
        </p:spPr>
      </p:pic>
      <p:pic>
        <p:nvPicPr>
          <p:cNvPr id="1609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1470240" cy="158940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1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1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9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0" name=""/>
          <p:cNvSpPr/>
          <p:nvPr/>
        </p:nvSpPr>
        <p:spPr>
          <a:xfrm>
            <a:off x="2411280" y="155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ery Able To D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2771640" y="3357720"/>
            <a:ext cx="3628800" cy="825120"/>
            <a:chOff x="2771640" y="3357720"/>
            <a:chExt cx="3628800" cy="825120"/>
          </a:xfrm>
        </p:grpSpPr>
        <p:sp>
          <p:nvSpPr>
            <p:cNvPr id="1622" name=""/>
            <p:cNvSpPr/>
            <p:nvPr/>
          </p:nvSpPr>
          <p:spPr>
            <a:xfrm>
              <a:off x="2771640" y="3456000"/>
              <a:ext cx="61092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11280" y="3456000"/>
              <a:ext cx="61128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0800" y="341460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60800" y="34146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536800" y="335772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2771640" y="4292640"/>
            <a:ext cx="3635280" cy="825120"/>
            <a:chOff x="2771640" y="4292640"/>
            <a:chExt cx="3635280" cy="825120"/>
          </a:xfrm>
        </p:grpSpPr>
        <p:sp>
          <p:nvSpPr>
            <p:cNvPr id="1628" name=""/>
            <p:cNvSpPr/>
            <p:nvPr/>
          </p:nvSpPr>
          <p:spPr>
            <a:xfrm>
              <a:off x="4217760" y="4459320"/>
              <a:ext cx="611280" cy="61128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71640" y="4459320"/>
              <a:ext cx="61128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27280" y="436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967280" y="436428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543280" y="429264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2771640" y="2349360"/>
            <a:ext cx="3628800" cy="825120"/>
            <a:chOff x="2771640" y="2349360"/>
            <a:chExt cx="3628800" cy="825120"/>
          </a:xfrm>
        </p:grpSpPr>
        <p:sp>
          <p:nvSpPr>
            <p:cNvPr id="1634" name=""/>
            <p:cNvSpPr/>
            <p:nvPr/>
          </p:nvSpPr>
          <p:spPr>
            <a:xfrm>
              <a:off x="2771640" y="2447640"/>
              <a:ext cx="61092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520800" y="240660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960800" y="24066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6800" y="234936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140000" y="234936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771640" y="5472000"/>
            <a:ext cx="611280" cy="611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521160" y="54309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960800" y="54309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537160" y="5373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140360" y="537372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771640" y="5481720"/>
            <a:ext cx="611280" cy="611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56" name=""/>
          <p:cNvGraphicFramePr/>
          <p:nvPr/>
        </p:nvGraphicFramePr>
        <p:xfrm>
          <a:off x="971640" y="1916280"/>
          <a:ext cx="7272360" cy="3797280"/>
        </p:xfrm>
        <a:graphic>
          <a:graphicData uri="http://schemas.openxmlformats.org/drawingml/2006/table">
            <a:tbl>
              <a:tblPr/>
              <a:tblGrid>
                <a:gridCol w="1700280"/>
                <a:gridCol w="1857240"/>
                <a:gridCol w="1857240"/>
                <a:gridCol w="1857600"/>
              </a:tblGrid>
              <a:tr h="22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15 marbles.  Juan gave her 28 more marbles.  How many marbles does Connie have altogeth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15 marbles.  How many more marbles does she need to have 43 marbles altogeth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some marbles.  Juan gave her 15 more marbles.  Now she has 43 marbles.  How many marbles did Connie have to start wi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43 marbles.  She gave 15 to Juan.  How many marbles does Connie have lef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43 marbles.  She gave some to Juan.  Now she has 15 marbles left.  How many marbles did Connie give to Ju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some marbles.  She gave 15 to Juan.  Now she has 28 marbles left.  How many marbles did Connie have to start wi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7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87800" y="2492280"/>
            <a:ext cx="1565280" cy="1565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/>
          <p:cNvSpPr txBox="1"/>
          <p:nvPr/>
        </p:nvSpPr>
        <p:spPr>
          <a:xfrm>
            <a:off x="2268360" y="692280"/>
            <a:ext cx="47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are found everywhe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1509480" cy="100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87440" y="2492280"/>
            <a:ext cx="1262160" cy="1584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243080" y="4653000"/>
            <a:ext cx="1439640" cy="1166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 rot="1764000">
            <a:off x="7235640" y="2997360"/>
            <a:ext cx="109692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251080" y="364500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95640" y="4653000"/>
            <a:ext cx="4464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nk for 20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rite and draw silently for 60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witch papers with anoth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r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003640" y="2563920"/>
            <a:ext cx="1873440" cy="1249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6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6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6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6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7991640" cy="2643120"/>
          </a:xfrm>
          <a:prstGeom prst="rect">
            <a:avLst/>
          </a:prstGeom>
          <a:ln w="0">
            <a:noFill/>
          </a:ln>
        </p:spPr>
      </p:pic>
      <p:sp>
        <p:nvSpPr>
          <p:cNvPr id="1670" name=""/>
          <p:cNvSpPr/>
          <p:nvPr/>
        </p:nvSpPr>
        <p:spPr>
          <a:xfrm>
            <a:off x="1835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What’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2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7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7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8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"/>
          <p:cNvSpPr/>
          <p:nvPr/>
        </p:nvSpPr>
        <p:spPr>
          <a:xfrm>
            <a:off x="1835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What’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416720" cy="3898800"/>
          </a:xfrm>
          <a:prstGeom prst="rect">
            <a:avLst/>
          </a:prstGeom>
          <a:ln w="0">
            <a:noFill/>
          </a:ln>
        </p:spPr>
      </p:pic>
      <p:sp>
        <p:nvSpPr>
          <p:cNvPr id="1685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9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9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9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97" name=""/>
          <p:cNvGraphicFramePr/>
          <p:nvPr/>
        </p:nvGraphicFramePr>
        <p:xfrm>
          <a:off x="1116000" y="2998800"/>
          <a:ext cx="7272360" cy="3128760"/>
        </p:xfrm>
        <a:graphic>
          <a:graphicData uri="http://schemas.openxmlformats.org/drawingml/2006/table">
            <a:tbl>
              <a:tblPr/>
              <a:tblGrid>
                <a:gridCol w="1700280"/>
                <a:gridCol w="1857240"/>
                <a:gridCol w="1857600"/>
                <a:gridCol w="1857240"/>
              </a:tblGrid>
              <a:tr h="31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ization and Compa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Juan has 15 marbles.  How many more marbles does Connie have than Juan? (Comp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many more marbles does Juan need to have as many as Connie? (Equaliz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an has 15 marbles.  Connie has 28 more than Juan.  How many marbles does Conni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She has 15 more marbles than Juan.  How many marbles does Juan have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8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99" name=""/>
          <p:cNvGraphicFramePr/>
          <p:nvPr/>
        </p:nvGraphicFramePr>
        <p:xfrm>
          <a:off x="1116000" y="1773360"/>
          <a:ext cx="7272360" cy="1225440"/>
        </p:xfrm>
        <a:graphic>
          <a:graphicData uri="http://schemas.openxmlformats.org/drawingml/2006/table">
            <a:tbl>
              <a:tblPr/>
              <a:tblGrid>
                <a:gridCol w="1700280"/>
                <a:gridCol w="2786040"/>
                <a:gridCol w="278604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-Part-W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15 red marbles and 28 blue marbles.  How many marbles does sh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15 are red and the rest are blue. How many blue marbles does Conni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0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0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0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1" name=""/>
          <p:cNvSpPr/>
          <p:nvPr/>
        </p:nvSpPr>
        <p:spPr>
          <a:xfrm>
            <a:off x="1763640" y="141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 Lessons – Open Number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3" name=""/>
          <p:cNvSpPr/>
          <p:nvPr/>
        </p:nvSpPr>
        <p:spPr>
          <a:xfrm>
            <a:off x="1042920" y="2133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teacher writes an open-number sentence on the board and asks the students how to make the statement true.  Students can justify their responses; e.g., using balance models, comparing distances on a numb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2771640" y="3573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= 3 +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1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2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2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2309760" y="2116080"/>
            <a:ext cx="4524480" cy="340056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 rot="20024400">
            <a:off x="1235160" y="2096640"/>
            <a:ext cx="1476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9" name=""/>
          <p:cNvSpPr/>
          <p:nvPr/>
        </p:nvSpPr>
        <p:spPr>
          <a:xfrm>
            <a:off x="684360" y="5949360"/>
            <a:ext cx="74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3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3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3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1" name=""/>
          <p:cNvSpPr txBox="1"/>
          <p:nvPr/>
        </p:nvSpPr>
        <p:spPr>
          <a:xfrm>
            <a:off x="1258920" y="836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r Questions and Feedb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34920" cy="84780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224000" cy="60480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1258920" y="2492280"/>
            <a:ext cx="6769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ach problem that I s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ecame a rule which served afterwards to solve othe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Poor Richard"/>
              </a:rPr>
              <a:t>Ren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  <a:ea typeface="Arial"/>
              </a:rPr>
              <a:t>é</a:t>
            </a:r>
            <a:r>
              <a:rPr b="0" lang="en-CA" sz="2800" spc="-1" strike="noStrike">
                <a:solidFill>
                  <a:srgbClr val="000000"/>
                </a:solidFill>
                <a:latin typeface="Poor Richard"/>
              </a:rPr>
              <a:t> Desc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8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8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9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 txBox="1"/>
          <p:nvPr/>
        </p:nvSpPr>
        <p:spPr>
          <a:xfrm>
            <a:off x="2268360" y="620640"/>
            <a:ext cx="47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are found everywhe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484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 - Predictabl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2303640" cy="173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16360" y="4221000"/>
            <a:ext cx="2952720" cy="1762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484280" cy="1947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84360" y="2924280"/>
            <a:ext cx="150480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916360" y="2276640"/>
            <a:ext cx="1171440" cy="1655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500720" y="2349360"/>
            <a:ext cx="2016000" cy="1576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539640" y="6165720"/>
            <a:ext cx="59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Crystal Cochrane, St. Leo Catholic Elementary School, Grade 1, Edmonton, AB,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0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0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1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numerical or non-numeric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1773360"/>
            <a:ext cx="7345440" cy="1000080"/>
            <a:chOff x="1042920" y="1773360"/>
            <a:chExt cx="7345440" cy="1000080"/>
          </a:xfrm>
        </p:grpSpPr>
        <p:sp>
          <p:nvSpPr>
            <p:cNvPr id="217" name=""/>
            <p:cNvSpPr/>
            <p:nvPr/>
          </p:nvSpPr>
          <p:spPr>
            <a:xfrm>
              <a:off x="1042920" y="177336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Kindergarten </a:t>
              </a:r>
              <a:r>
                <a:rPr b="0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 actions, sound, colour, size, shape, 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2914560" y="2205360"/>
              <a:ext cx="3610080" cy="56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2916360" y="2924280"/>
            <a:ext cx="5279760" cy="933480"/>
            <a:chOff x="2916360" y="2924280"/>
            <a:chExt cx="5279760" cy="933480"/>
          </a:xfrm>
        </p:grpSpPr>
        <p:sp>
          <p:nvSpPr>
            <p:cNvPr id="220" name=""/>
            <p:cNvSpPr/>
            <p:nvPr/>
          </p:nvSpPr>
          <p:spPr>
            <a:xfrm>
              <a:off x="2916360" y="321336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1 – add diagrams and 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7308720" y="2924280"/>
              <a:ext cx="887400" cy="9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755640" y="3860640"/>
            <a:ext cx="7418160" cy="865080"/>
            <a:chOff x="755640" y="3860640"/>
            <a:chExt cx="7418160" cy="865080"/>
          </a:xfrm>
        </p:grpSpPr>
        <p:sp>
          <p:nvSpPr>
            <p:cNvPr id="223" name=""/>
            <p:cNvSpPr/>
            <p:nvPr/>
          </p:nvSpPr>
          <p:spPr>
            <a:xfrm>
              <a:off x="755640" y="3860640"/>
              <a:ext cx="52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2 – focus on  attributes and numb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55640" y="4436640"/>
              <a:ext cx="7418160" cy="289080"/>
              <a:chOff x="755640" y="4436640"/>
              <a:chExt cx="7418160" cy="2890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240160" y="4436640"/>
                <a:ext cx="2933640" cy="289080"/>
                <a:chOff x="5240160" y="4436640"/>
                <a:chExt cx="2933640" cy="28908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240160" y="4436640"/>
                  <a:ext cx="1423080" cy="289080"/>
                  <a:chOff x="5240160" y="4436640"/>
                  <a:chExt cx="1423080" cy="289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24016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61312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98536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3583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750720" y="4436640"/>
                  <a:ext cx="1423080" cy="289080"/>
                  <a:chOff x="6750720" y="4436640"/>
                  <a:chExt cx="1423080" cy="289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67507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12368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49592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86888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2243160" y="4436640"/>
                <a:ext cx="2933640" cy="289080"/>
                <a:chOff x="2243160" y="4436640"/>
                <a:chExt cx="2933640" cy="28908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2243160" y="4436640"/>
                  <a:ext cx="1423080" cy="289080"/>
                  <a:chOff x="2243160" y="4436640"/>
                  <a:chExt cx="1423080" cy="2890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224316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61612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98836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3613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3753720" y="4436640"/>
                  <a:ext cx="1423080" cy="289080"/>
                  <a:chOff x="3753720" y="4436640"/>
                  <a:chExt cx="1423080" cy="289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37537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2668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9892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87188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55640" y="4436640"/>
                <a:ext cx="1422000" cy="289080"/>
                <a:chOff x="755640" y="4436640"/>
                <a:chExt cx="1422000" cy="28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55640" y="4436640"/>
                  <a:ext cx="304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28240" y="4436640"/>
                  <a:ext cx="304560" cy="28908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00480" y="4436640"/>
                  <a:ext cx="304560" cy="289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873080" y="4436640"/>
                  <a:ext cx="304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755640" y="5157720"/>
            <a:ext cx="7848720" cy="1166760"/>
            <a:chOff x="755640" y="5157720"/>
            <a:chExt cx="7848720" cy="1166760"/>
          </a:xfrm>
        </p:grpSpPr>
        <p:sp>
          <p:nvSpPr>
            <p:cNvPr id="253" name=""/>
            <p:cNvSpPr/>
            <p:nvPr/>
          </p:nvSpPr>
          <p:spPr>
            <a:xfrm>
              <a:off x="2195640" y="5229000"/>
              <a:ext cx="64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3 – expressed as concrete, pictorial, symbo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755640" y="5157720"/>
              <a:ext cx="1440000" cy="1166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55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5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6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numerical or non-numeric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3357720"/>
            <a:ext cx="3970440" cy="1552320"/>
            <a:chOff x="1187280" y="3357720"/>
            <a:chExt cx="3970440" cy="15523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18728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212256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305892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399564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3419640" y="1628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236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2421000"/>
            <a:ext cx="151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700" spc="-1" strike="noStrike">
                <a:solidFill>
                  <a:srgbClr val="000000"/>
                </a:solidFill>
                <a:latin typeface="comic"/>
              </a:rPr>
              <a:t>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4149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en Will We Reach 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8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8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8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ognizing patterns involves attribu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ttern Puzz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2374920" cy="1841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730080" cy="100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627280" y="2565360"/>
            <a:ext cx="5904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lect an attribut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ke a core unit with 3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elements, using thi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big, big, sm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square, triangle, triang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yellow, blue, 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peat the pattern 2 mor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k your partner to describe you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1:53:57Z</dcterms:created>
  <dc:creator>gibeaul</dc:creator>
  <dc:description/>
  <dc:language>en-US</dc:language>
  <cp:lastModifiedBy>Esther.Yong</cp:lastModifiedBy>
  <dcterms:modified xsi:type="dcterms:W3CDTF">2007-01-03T20:39:46Z</dcterms:modified>
  <cp:revision>167</cp:revision>
  <dc:subject/>
  <dc:title>Slide 1</dc:title>
</cp:coreProperties>
</file>